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C91-E4F4-4D7A-88BE-2BF604B2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353-75D9-4989-A791-F0AE1A4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4B5-547D-4EC5-9607-1E4622FE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5F9-1400-49BF-A947-71DA1024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FF1-4E7C-494F-B8FE-0D5068D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C792-FF55-4B86-9914-CAE4BC80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5F3-82A8-43BB-B31B-7DE6619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69E1-7210-480A-B812-4EC544C7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67BD-319A-4C93-8EC7-61FCF18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CC8-A0C2-4A7D-8E27-22BF6D5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38AD-EA33-4961-90CB-0B9DFC8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972-C30A-4CC8-9189-54DBC49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8E31-D7C4-4DFA-981C-0F31B32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6F8F-C3A8-4B0C-BE58-1A1CBABC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E52F-DD87-4B25-A8E3-EF2E914B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5849-9134-40BD-89EC-68EC363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1FF-DF0E-44AB-B397-B6718693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A0B7-05A9-415E-A7F9-50B1DC81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8492-ECDC-4429-8A9A-D42CF8E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7631-009D-449F-9A1E-23922325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C467-5F99-422C-8E71-5EF68F1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9939-1F77-4B01-AE1D-9F806B6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DDF-F186-464F-9AC1-4ADA0EFE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0BEC-E645-4713-9D7C-69D9453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DDAC-A8F5-4B60-B041-AF688F4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CC62-A081-4AA9-96D8-ED10F86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4A7F-64C4-40C3-B26C-FA90324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B9DA-45B8-4875-9B31-06095D0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F3B1-1723-41CE-ACE0-00F3FB3C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F07E-FA3B-4CC0-89AF-038E7399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DE64-8549-41B1-ADA1-89C2FE26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F222-8BB7-4816-A89B-16409631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378F-B07A-4C14-AE23-EE1A07A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D83-A7AE-4B1A-BB3E-E34139C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673D-FB78-457A-B8E2-BDD4F88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DA48D-F588-4950-B667-41A4CCA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8DBA-AB0C-4BEC-9E55-A0E44E83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14C5-71A2-4A82-A8A3-454C49F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2367-82E6-4138-B988-A8E8FDF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1419-B472-41C7-8DBF-5274F0B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177A-8B90-4F3C-A7D1-6130742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C6F7-E71E-40CF-9C0A-51E37227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3DE2-E3E2-4EB2-8EB1-72A5C951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208C-9673-461D-93D8-A30D8C78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2FD-E8CC-4BC8-A31C-E7D412C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B949-5A5D-4F3B-9C26-2CA8556B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6514-AC42-4A9D-B3B6-411F8E97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B4F1-7AFB-485B-BAB1-31C6263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D9AD-881B-4196-B30F-66CAD36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B95C-0FD1-4AA2-B3E1-80C8067E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A9C2-0FC3-4217-ACE9-BA92AE3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A684-68CA-471F-B231-C84CF2A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4E63-4994-418E-90A9-7BB635F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27C1-B025-4D01-AD02-5B235CD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2A4C-2CD4-4688-99E1-14692F62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BD2-5E1F-4516-BE2D-CC35775F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2F0A-8F6C-4E44-962E-ACE139E2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8070-8E58-4ADA-B80D-FC1071CA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AD78-C817-489B-9D68-58B19B1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98C6-343C-400B-974C-C33F5A4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4D99-3BAD-4A53-89D4-DC9CBDD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BE63-24A4-4381-8752-1B1A2C4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2EE3A-27DF-45F1-BA23-F8357DBB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9F92-8D35-4C3F-A93E-E8FB315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DED6-B68A-41A9-B752-E03841B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DC69-A72D-4A96-B3CA-D71857FB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77C-87E1-41B4-9F4B-9900666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7CB5-90A1-4C10-8E00-CF36275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592C-4BF7-4045-8DD2-E458AC84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7981-2227-48F4-BFFF-DC5FB0F6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C49D-9520-4849-BFBF-54EA08D4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D829-72F9-4A6C-8688-85FE0728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FE03D-1DFF-4633-9B6E-E6E79A6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CBAB-0AB5-4421-BDB8-A55B728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C6D4-72A4-4D68-AE3A-047C087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65B4-8A7E-40A5-B648-2C30F93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D6C6F-AD8B-4C3E-9DC0-D135451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AD3-E2D5-43A6-A449-3C8F58EE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DBAF-C57B-4DE5-A23B-B81E421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CC29-E848-4593-A661-2D63E57F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5ABD-CEF0-4B25-9430-D78626C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C47B9-56FC-49D4-A3AE-590ABA52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3B28-0B15-468C-94D0-E7B7C55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B7A-B984-4AEE-BDF0-61C80AE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09A-00E7-4CDA-A3A6-9495B70828C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A846-3B78-46E5-941D-4C3FE80516D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E9AC-8602-452F-815F-8A888291C06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933-1B3C-4385-8AC1-132A8829E43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C80-CBA2-4067-8478-E6A918CF69C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CF4C-B8AD-41E2-81B6-1DA64B97230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59D3-6C32-4A8D-9E4F-7C11D0DCD46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328608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5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5 г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5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5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69,2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Почепского сельсовета Дмитриевского района з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чепского сельсовета от 17.12.2014 №190«О бюджете  муниципального образования «Почепский сельсовет» Дмитриевского района Курской области  на 2015 год и на плановый период 2016 и 2017 годов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чепского сельсовета от 28.12.2015 № 26 «О внесении изменений в решение Собрания депутатов Почепского сельсовета  от 17.12.2014№190 «О бюджете  муниципального образования «Почепский сельсовет» Дмитриевского района  Курской области на 2015 год и на плановый период 2016 и 2017 годов»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Почеп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на 2015 год и на плановый период 2016 и 201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9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3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6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44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5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2017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ах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27832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5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15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8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5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5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8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0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8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5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609768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роведения выборов и референду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49672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5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5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жилищно-коммунального хозя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обеспечение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Диаграмма 3" descr=""/>
          <p:cNvPicPr/>
          <p:nvPr/>
        </p:nvPicPr>
        <p:blipFill>
          <a:blip r:embed="rId1"/>
          <a:stretch/>
        </p:blipFill>
        <p:spPr>
          <a:xfrm>
            <a:off x="371520" y="1052640"/>
            <a:ext cx="877248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5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976,3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28,3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131,9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28,3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Прямая со стрелкой 6"/>
          <p:cNvCxnSpPr>
            <a:stCxn id="339" idx="3"/>
            <a:endCxn id="340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>
            <a:stCxn id="339" idx="4"/>
            <a:endCxn id="341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5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6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FIT</cp:lastModifiedBy>
  <dcterms:modified xsi:type="dcterms:W3CDTF">2016-05-05T21:22:55Z</dcterms:modified>
  <cp:revision>3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