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A81-B2C5-4D4D-8380-6B789C8F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218-493A-4955-9D9C-B54321A9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0E8-FF27-4E2C-8CB4-43E1512C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758-D8CC-4042-89E8-34DA2D39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8783-D1E5-4A4C-BE27-6C54ADDB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8FCC-4550-429D-98D2-C1A6DA6F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012F-C29D-4261-A233-B0C968C0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1936-9AF4-4A4F-B9F6-55B84631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806B-B4B9-4841-AC90-F67995D5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FAE4-7168-493C-B998-883B11FC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123B-94B9-4D96-AD8A-78B13518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356-B765-437C-AD7B-703E14DE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9440-50E9-4DCB-8FA5-993ACF4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8E8-5B49-400C-9FB6-FD3E88CB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B3E8-0082-472B-A991-748D5DD2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5643-071B-4C10-94A6-80FB21BA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1F91-F6EE-4DD6-B002-E09F866F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ADE9-98CA-4F74-985A-238B724C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3823-32BE-4CE3-87C1-87F07366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BAB4-B484-4A5A-B345-75FCADB4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2747-7281-4CE7-B674-B6365C3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05B6-61FA-427C-A614-ECE31CE2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98C-22E7-478D-9184-C2FA20EC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8FBE-1B8A-42FA-8DD8-BF59CB03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D5E7-E37C-442A-8CD4-E7C55653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6AD0-4000-4540-A91D-C4DDBC80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97B7-EC7C-41EF-A8F5-5BBF93B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D201A-D1AC-45F9-BA97-7C26A09D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00ED-3517-4BA3-8254-68A1AE3B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03CE-25FB-402E-AC17-7A06AD62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911AD-C517-4BB6-8A05-0E3B9543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C3AA-6CCF-4651-AE1A-0E298702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9323-C5BC-4991-9650-6BEAE7B9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F42-D0B3-494C-B50C-CCED2D4C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82FB-0F34-4D89-837E-55663AF2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A9A6-93B6-4C2A-8D3C-6416673B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AFE2-6E94-4C33-A5B8-0749751B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9A83-FAEC-4DAC-A741-D95E4A1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26D4-6B14-4A43-96A4-1D146F1E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3C4CB-4348-47C1-BA1D-6ED821F2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0150-D3BB-46BA-9901-04E49451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D2ADE-505C-4168-AC91-BD05285D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C41BC-E001-4287-A6C1-25EA8EAB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9E7-0674-4487-B181-8F4173CB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FC2-DBCF-409F-A455-BD8EEBCA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674-05C1-440D-9CC9-3D6B14B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08A-C325-4840-899B-5544B12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7E1-342D-485B-BB9E-0DA7511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E4B9-7AB6-42F2-BC41-E53BCBEED81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C633-F255-4381-9832-B15771FB67B0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F290-8185-4B5A-9C31-D4240A59A6C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AE86-5549-45DB-AFF6-66827217930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на 2017 год и на плановый период 2018 и 2019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2400" y="133200"/>
            <a:ext cx="109224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2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о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39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-2019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3,8                    3243,8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6,4                     18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0                           6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                            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5,5                        10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,9                          24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                                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5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3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1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ом сельсовет» на 201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ом сельсовет» н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16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4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-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1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5,5      10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9          24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ом сельсовет» на 201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            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ом сельсовет» н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            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16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5          2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58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7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Picture 27" descr=""/>
          <p:cNvPicPr/>
          <p:nvPr/>
        </p:nvPicPr>
        <p:blipFill>
          <a:blip r:embed="rId2"/>
          <a:stretch/>
        </p:blipFill>
        <p:spPr>
          <a:xfrm>
            <a:off x="4857840" y="3071880"/>
            <a:ext cx="3855960" cy="2539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9" descr="http://www.kdmt46.ru/rnewsfiles/10/36167jenshhiny.jpg"/>
          <p:cNvPicPr/>
          <p:nvPr/>
        </p:nvPicPr>
        <p:blipFill>
          <a:blip r:embed="rId3"/>
          <a:stretch/>
        </p:blipFill>
        <p:spPr>
          <a:xfrm>
            <a:off x="357120" y="27147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7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-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         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7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Picture 27" descr=""/>
          <p:cNvPicPr/>
          <p:nvPr/>
        </p:nvPicPr>
        <p:blipFill>
          <a:blip r:embed="rId2"/>
          <a:stretch/>
        </p:blipFill>
        <p:spPr>
          <a:xfrm>
            <a:off x="4857840" y="3071880"/>
            <a:ext cx="3855960" cy="2539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9" descr="http://www.kdmt46.ru/rnewsfiles/10/36167jenshhiny.jpg"/>
          <p:cNvPicPr/>
          <p:nvPr/>
        </p:nvPicPr>
        <p:blipFill>
          <a:blip r:embed="rId3"/>
          <a:stretch/>
        </p:blipFill>
        <p:spPr>
          <a:xfrm>
            <a:off x="357120" y="27147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796520" cy="5759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0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17 год и на плановый период 2018 и 2019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1066680" y="263988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ой сельсовет» на 2017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8,1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ой сельсовет» на 2018 и 2019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-2019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1           293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3,8        32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,8             3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5929200" y="4429080"/>
            <a:ext cx="1117800" cy="9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о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FIT</cp:lastModifiedBy>
  <dcterms:modified xsi:type="dcterms:W3CDTF">2016-12-28T23:23:36Z</dcterms:modified>
  <cp:revision>193</cp:revision>
  <dc:subject/>
  <dc:title>Презентация PowerPoint</dc:title>
</cp:coreProperties>
</file>