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AB5-C3AA-4E8C-BAC6-DEB00EA5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2CF-8F56-4D8C-95E1-B15CD348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CFD-290D-4D88-8F08-80CA46C6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479-821A-407A-BFE6-F2E66E4B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9A9-3C40-4183-8E11-EB3F7941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CFB-D156-4C9D-B191-A2B544C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2D7-BFC2-4D40-B861-8FAE514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452-E297-4D96-A19A-69A054E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486-89A7-4793-AF3E-9EFD014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1E8-EDCA-4D3B-855F-7F0D3C1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342-C6D2-4C1C-8601-975B643D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532-BB76-4A98-A4D6-737A349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AF0C-7BCB-481E-9186-CBA7D5A9F1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875440" cy="6712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3429000" y="5500800"/>
            <a:ext cx="244800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5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6г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5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19" descr="C:\Documents and Settings\XxX\Рабочий стол\Почепской сельсовет Баннер (4).jpg"/>
          <p:cNvPicPr/>
          <p:nvPr/>
        </p:nvPicPr>
        <p:blipFill>
          <a:blip r:embed="rId2"/>
          <a:stretch/>
        </p:blipFill>
        <p:spPr>
          <a:xfrm>
            <a:off x="7715160" y="928800"/>
            <a:ext cx="1214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6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67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admpolniki.ru/index_files/panorama.jpg"/>
          <p:cNvPicPr/>
          <p:nvPr/>
        </p:nvPicPr>
        <p:blipFill>
          <a:blip r:embed="rId1"/>
          <a:stretch/>
        </p:blipFill>
        <p:spPr>
          <a:xfrm>
            <a:off x="1428840" y="4429080"/>
            <a:ext cx="6095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Почепского сельсовета Дмитриевского района за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06200" y="1413000"/>
            <a:ext cx="9037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чепского сельсовета от 14.12.2015 №25«О бюджете  муниципального образования «Почепский сельсовет» Дмитриевского района Курской области  на 2016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Почепского сельсовета от 30.12.2016 № 61 «О внесении изменений в решение Собрания депутатов Почепского сельсовета  от 14.12.2015 №25  «О бюджете  муниципального образования «Почепский сельсовет» Дмитриевского района  Курской области на 2016 год 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35899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357200" y="3379680"/>
            <a:ext cx="63579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новные параметры бюджета Почеп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митриевского района н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1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1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8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51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6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8" descr=""/>
          <p:cNvPicPr/>
          <p:nvPr/>
        </p:nvPicPr>
        <p:blipFill>
          <a:blip r:embed="rId1"/>
          <a:stretch/>
        </p:blipFill>
        <p:spPr>
          <a:xfrm>
            <a:off x="4786200" y="121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2"/>
          <a:stretch/>
        </p:blipFill>
        <p:spPr>
          <a:xfrm>
            <a:off x="6858000" y="228600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42920" y="798480"/>
          <a:ext cx="7607520" cy="527832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16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6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6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4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0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0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1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70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4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5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5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cxnSp>
        <p:nvCxnSpPr>
          <p:cNvPr id="60" name="Прямая со стрелкой 3"/>
          <p:cNvCxnSpPr/>
          <p:nvPr/>
        </p:nvCxnSpPr>
        <p:spPr>
          <a:xfrm>
            <a:off x="4716360" y="5013000"/>
            <a:ext cx="216720" cy="3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2240" y="857160"/>
          <a:ext cx="8267400" cy="564048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8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14200"/>
          <a:ext cx="8245440" cy="480384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7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Диаграмма 3"/>
          <p:cNvGraphicFramePr/>
          <p:nvPr/>
        </p:nvGraphicFramePr>
        <p:xfrm>
          <a:off x="571680" y="1071720"/>
          <a:ext cx="8877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8877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6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83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60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923,6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60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6"/>
          <p:cNvCxnSpPr>
            <a:stCxn id="68" idx="3"/>
            <a:endCxn id="6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" name="Прямая со стрелкой 14"/>
          <p:cNvCxnSpPr>
            <a:stCxn id="68" idx="4"/>
            <a:endCxn id="7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FIT</cp:lastModifiedBy>
  <dcterms:modified xsi:type="dcterms:W3CDTF">2017-04-28T10:13:24Z</dcterms:modified>
  <cp:revision>3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