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629-A1E5-4E61-88C3-D2392D4F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836-2E60-4339-9BC6-BDA634BA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0E8-C216-4CB2-ABA9-30995E02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0AC-9BCC-4CBD-A0EC-E385F63B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7FAA-6C99-4457-9FF4-26E4B088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74DD-A65D-473F-8606-2B0E7576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4161-0CEA-467E-B84A-A290D431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ED62-81CF-4765-BEC3-5402EE6E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341B-5F56-47CE-8271-91DE452D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7ACA-8FB1-425A-B2E3-01914700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453A-255B-473A-A02E-04A17A18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5F6-6792-4E49-8A93-67D8BF02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2C21-B515-4881-90B9-B8359218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CB9A-533B-4083-BD28-B10B7E92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BC5D-58BB-484A-B89F-6C1E95C5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956B-73EA-4A68-9B0A-67E21634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951C-7244-4889-9C2E-59A9325C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A2417-701B-4B6D-BFC6-3D79C35B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07D8-BAAB-4CB2-A116-C7D9A727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528E4-D07D-41E6-A4E1-C9C51C5A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5A8A6-8EC8-42BD-8EE3-72D40964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47AF0-E57B-43B6-BBD5-34983B17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603-2868-43B3-9494-4083EB71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37C23-D5FE-431B-8542-1C256662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0765B-9FD5-4E8F-9C3D-18BB154A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97989-D578-4F40-BC27-76F18939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83D8D-35FA-4E23-B4EF-10FE8190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9396-91EE-4610-93AE-305207E7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2AC0-74CF-4F42-BEBA-A12F7BA0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02FE9-1C79-4809-9FA3-A0DF7777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597AE-8CEC-42FA-832E-177E79AB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49757-8F8C-4113-829A-B4D8D810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EEA9-6506-4302-B3FD-578395BA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08E-2248-4552-8E86-E0BCD6FF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520D3-25F7-4CFC-B46C-A55A7B9B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DF9EF-E3B6-4C6D-ABBE-8AAC3C1F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40C42-6D6F-4E2C-BDA1-CA479E7B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6ADE6-96FC-4C47-B766-B07EDDF8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5964-775F-4E2C-B608-ABA69E83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4E12-B007-453A-9E11-CF05889D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104C1-3B18-4B19-8C0E-B0B5E7A7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4FADE-C5EB-4382-ADD9-0A6D6E41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1515-1A1E-49AE-98D8-D45D1CE9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4B2-2839-4D8B-B1E3-87A9D81A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F71-F481-472F-9E95-C5AF1356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9C2-ECC6-41AC-A0FC-44BDB042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BF3-6687-4662-B8C8-FB4329FF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B6A-75EF-4551-B223-BAB5EB06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BB3E-0724-4120-A07B-49345186D210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4689-0FF7-4A96-A7B8-034DAE37968E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EA67-8B03-43CC-918A-9D5A23E3C323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8216-5820-425B-893C-67DA7A2AFD1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  решению Собрания депутатов Почепского сельсовета  «О бюджете муниципального образования «Почепский сельсовет» Дмитриевского района Курской области </a:t>
            </a: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на 2018 год и на плановый период 2019 и 2020 годов»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1" descr="http://cs403018.vk.me/v403018988/4228/4hyM1kjbv5M.jpg"/>
          <p:cNvPicPr/>
          <p:nvPr/>
        </p:nvPicPr>
        <p:blipFill>
          <a:blip r:embed="rId2"/>
          <a:stretch/>
        </p:blipFill>
        <p:spPr>
          <a:xfrm>
            <a:off x="3992400" y="133200"/>
            <a:ext cx="1092240" cy="1268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9" descr="C:\Documents and Settings\XxX\Рабочий стол\Почепской сельсовет Баннер (4).jpg"/>
          <p:cNvPicPr/>
          <p:nvPr/>
        </p:nvPicPr>
        <p:blipFill>
          <a:blip r:embed="rId3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C:\Documents and Settings\XxX\Рабочий стол\Почепской сельсовет Баннер (4).jpg"/>
          <p:cNvPicPr/>
          <p:nvPr/>
        </p:nvPicPr>
        <p:blipFill>
          <a:blip r:embed="rId4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2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39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-2020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3,5                   4542,6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4,9                    223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3                          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                             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                            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                              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6,4                       195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,7                          24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                                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38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4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18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в муниципальном образовании «Почепский сельсовет» на 2018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18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5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-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18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6,4      195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,7          2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 в муниципальном образовании «Почепский сельсовет» на 2018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            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            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18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,1         21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61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85840" y="466560"/>
          <a:ext cx="8318520" cy="208764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18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0" name="Picture 27" descr=""/>
          <p:cNvPicPr/>
          <p:nvPr/>
        </p:nvPicPr>
        <p:blipFill>
          <a:blip r:embed="rId2"/>
          <a:stretch/>
        </p:blipFill>
        <p:spPr>
          <a:xfrm>
            <a:off x="4857840" y="3071880"/>
            <a:ext cx="3855960" cy="2539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9" descr="http://www.kdmt46.ru/rnewsfiles/10/36167jenshhiny.jpg"/>
          <p:cNvPicPr/>
          <p:nvPr/>
        </p:nvPicPr>
        <p:blipFill>
          <a:blip r:embed="rId3"/>
          <a:stretch/>
        </p:blipFill>
        <p:spPr>
          <a:xfrm>
            <a:off x="357120" y="27147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73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85840" y="466560"/>
          <a:ext cx="8318520" cy="224496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88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-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18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2" name="Picture 27" descr=""/>
          <p:cNvPicPr/>
          <p:nvPr/>
        </p:nvPicPr>
        <p:blipFill>
          <a:blip r:embed="rId2"/>
          <a:stretch/>
        </p:blipFill>
        <p:spPr>
          <a:xfrm>
            <a:off x="4857840" y="3071880"/>
            <a:ext cx="3855960" cy="2539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9" descr="http://www.kdmt46.ru/rnewsfiles/10/36167jenshhiny.jpg"/>
          <p:cNvPicPr/>
          <p:nvPr/>
        </p:nvPicPr>
        <p:blipFill>
          <a:blip r:embed="rId3"/>
          <a:stretch/>
        </p:blipFill>
        <p:spPr>
          <a:xfrm>
            <a:off x="357120" y="27147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7796520" cy="5759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842760" cy="1071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3500280" y="5429160"/>
            <a:ext cx="21560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68360" y="1268280"/>
            <a:ext cx="8064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Бюджет муниципального образования «Почепский сельсовет» на 2018 год и на плановый период 2019 и 2020 годов утверждён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Почепского сельсовета. В течении года  производится уточнение бюджета муниципального образования «Почепский сельсовет»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1066680" y="263988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3"/>
          <a:stretch/>
        </p:blipFill>
        <p:spPr>
          <a:xfrm>
            <a:off x="5072040" y="28576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495c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Бюджет –это форма образования и расходования денежных средств, предназначенных для реш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12" descr=""/>
          <p:cNvPicPr/>
          <p:nvPr/>
        </p:nvPicPr>
        <p:blipFill>
          <a:blip r:embed="rId2"/>
          <a:stretch/>
        </p:blipFill>
        <p:spPr>
          <a:xfrm>
            <a:off x="500040" y="714240"/>
            <a:ext cx="1581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4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 муниципального образования «Почепский сельсовет» составлен и утвержден сроком на один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6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47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48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3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pic>
        <p:nvPicPr>
          <p:cNvPr id="254" name="Picture 23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3" descr=""/>
          <p:cNvPicPr/>
          <p:nvPr/>
        </p:nvPicPr>
        <p:blipFill>
          <a:blip r:embed="rId4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57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Picture 13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j0186002"/>
          <p:cNvPicPr/>
          <p:nvPr/>
        </p:nvPicPr>
        <p:blipFill>
          <a:blip r:embed="rId3"/>
          <a:stretch/>
        </p:blipFill>
        <p:spPr>
          <a:xfrm>
            <a:off x="7072200" y="2000160"/>
            <a:ext cx="195264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6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18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50,3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5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9" name="Picture 29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09744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19 и 2020 годы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-2020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3,5           45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3,5       45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           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1" name="Picture 29" descr=""/>
          <p:cNvPicPr/>
          <p:nvPr/>
        </p:nvPicPr>
        <p:blipFill>
          <a:blip r:embed="rId2"/>
          <a:stretch/>
        </p:blipFill>
        <p:spPr>
          <a:xfrm>
            <a:off x="2071800" y="2571840"/>
            <a:ext cx="3097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9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ы бюджета муниципального образования «Почепски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Физических ли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Прямая со стрелкой 5"/>
          <p:cNvCxnSpPr>
            <a:stCxn id="303" idx="6"/>
            <a:endCxn id="302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5" name="Прямая со стрелкой 7"/>
          <p:cNvCxnSpPr>
            <a:stCxn id="306" idx="2"/>
            <a:endCxn id="302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7" name="Прямая со стрелкой 12"/>
          <p:cNvCxnSpPr>
            <a:endCxn id="302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308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от других бюджетов в виде дотаций, субсидий, субвенций и иных  межбюджетных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трансфер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доходы от использования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униципального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20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1681200" cy="1544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1" descr=""/>
          <p:cNvPicPr/>
          <p:nvPr/>
        </p:nvPicPr>
        <p:blipFill>
          <a:blip r:embed="rId3"/>
          <a:stretch/>
        </p:blipFill>
        <p:spPr>
          <a:xfrm>
            <a:off x="5929200" y="4429080"/>
            <a:ext cx="1117800" cy="9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1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5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9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3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8" descr=""/>
          <p:cNvPicPr/>
          <p:nvPr/>
        </p:nvPicPr>
        <p:blipFill>
          <a:blip r:embed="rId4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8" descr=""/>
          <p:cNvPicPr/>
          <p:nvPr/>
        </p:nvPicPr>
        <p:blipFill>
          <a:blip r:embed="rId5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Почепное</cp:lastModifiedBy>
  <dcterms:modified xsi:type="dcterms:W3CDTF">2017-12-21T11:51:54Z</dcterms:modified>
  <cp:revision>201</cp:revision>
  <dc:subject/>
  <dc:title>Презентация PowerPoint</dc:title>
</cp:coreProperties>
</file>