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1F7-6532-454D-95DA-87D557F0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095-94C9-4043-9D7A-522D00F1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9EE-54D0-4CBA-BE87-26A7FA92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098-7B1F-4830-8171-50CCB009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3C5A-315A-4DD0-AF13-95F7627B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9980-4895-43B2-A1AF-DF22B7E5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DC7D-CF96-4133-AF31-B1CB4327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88A5-7299-44C0-B619-A8B79E06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D580-8807-4149-885B-7EDD491C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695E-ED59-4128-8A21-237F1350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1A87-D7B2-4C60-98BA-653F5953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00ED-6718-45C5-9A89-9F9DFBBA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04D7-CC3E-40AA-9616-F4137802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B98C-8069-4107-BB68-664811FF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4BA7-4F7D-44EE-BEF8-80953FED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336B-866A-4E3B-9AE1-B5F6C700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6E13-7DA8-416C-A453-0AA03198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21B35-7B35-4FC3-9B72-F6CDF0CE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E216-A57C-4FDC-8923-F5EE06C8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79AB-7EB9-49C0-9EA9-BA01D053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94E6-452F-4A1A-BAE2-46FA0028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08371-C673-40DE-8E1E-6A04728E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424-D2AA-4B1A-93BE-719D181A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403D-376A-4A68-8F82-035DB1C3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81234-0C90-4C14-B52D-1ADEDD43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523FC-CB68-42F2-B835-98783056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B1BF6-B993-40B3-A7BC-4EC80D38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AD6B8-F017-4D5C-B28E-D2D25B12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5BEC5-D66E-4AE6-8552-0A67D761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ED004-307F-4787-94D8-726A9B19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303E6-238F-4D49-ACCC-D960F317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AC150-0ECE-4A9E-A0BB-46C7F9B2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AC0C3-1AE3-4789-999D-979CF896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53D3-FD4B-4508-83C1-F7DE1CB4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FFA7A-4C50-4D01-A955-C7AB4E99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EE1EC-2529-44FB-9054-A3D5489D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5B981-2C33-48CB-BB39-1C494183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421F3-356F-4711-9F21-3D1A22E0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3D814-7BBF-4771-BE5F-AB153D6E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F7511-9835-414D-B6E0-1084872E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982EB-0393-4304-AF35-04CE53BE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201E4-9A7F-4B40-8AD5-F910A89B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BC285-3DBE-432E-BC93-B9EAB4CB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C792-26C8-4A05-B5B4-FDDB693D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610-28C9-441C-94EE-77A9F4FB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48F-12A5-458A-844E-C22DAB3B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1E7-BD3B-428C-927D-4D763A04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248-8EB5-4FA8-BF7C-421A7D4E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6F0F-1923-416C-B603-25B42E22C54D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EBB0-EDB7-4B61-A715-9B246808DAEA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6ED7-BF48-4502-A72B-C7C4B8094DF6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A98F-52B5-47E6-A913-0F34CE7D78E9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Бюджет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ля граждан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  решению Собрания депутатов Почепского сельсовета  «О бюджете муниципального образования «Почепский сельсовет» Дмитриевского района Курской области </a:t>
            </a: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на 201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9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год и на плановый период 20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20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и 202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1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годов»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1" descr="http://cs403018.vk.me/v403018988/4228/4hyM1kjbv5M.jpg"/>
          <p:cNvPicPr/>
          <p:nvPr/>
        </p:nvPicPr>
        <p:blipFill>
          <a:blip r:embed="rId2"/>
          <a:stretch/>
        </p:blipFill>
        <p:spPr>
          <a:xfrm>
            <a:off x="3992400" y="133200"/>
            <a:ext cx="1092240" cy="12686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19" descr="C:\Documents and Settings\XxX\Рабочий стол\Почепской сельсовет Баннер (4).jpg"/>
          <p:cNvPicPr/>
          <p:nvPr/>
        </p:nvPicPr>
        <p:blipFill>
          <a:blip r:embed="rId3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C:\Documents and Settings\XxX\Рабочий стол\Почепской сельсовет Баннер (4).jpg"/>
          <p:cNvPicPr/>
          <p:nvPr/>
        </p:nvPicPr>
        <p:blipFill>
          <a:blip r:embed="rId4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27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39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-2021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36,3                   5125,4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74,2                   233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8                         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                             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                            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                              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3,2                      217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,6                          2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                                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37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4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19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в муниципальном образовании «Почепский сельсовет» на 2019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19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5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-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0-2021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6,4      195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0-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,6          25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граждан в муниципальном образовании «Почепский сельсовет» на  2020-2021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            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0-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            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0-2021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,3         22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6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85840" y="466560"/>
          <a:ext cx="8318520" cy="208764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19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9" name="Picture 29" descr="http://www.kdmt46.ru/rnewsfiles/10/36167jenshhiny.jpg"/>
          <p:cNvPicPr/>
          <p:nvPr/>
        </p:nvPicPr>
        <p:blipFill>
          <a:blip r:embed="rId2"/>
          <a:stretch/>
        </p:blipFill>
        <p:spPr>
          <a:xfrm>
            <a:off x="2195640" y="2852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71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85840" y="466560"/>
          <a:ext cx="8318520" cy="224496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88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-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         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-2021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          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0" name="Picture 27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385596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7796520" cy="5759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1571760" y="357120"/>
            <a:ext cx="842760" cy="1071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3"/>
          <a:stretch/>
        </p:blipFill>
        <p:spPr>
          <a:xfrm>
            <a:off x="3500280" y="5429160"/>
            <a:ext cx="215604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468360" y="1268280"/>
            <a:ext cx="8064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Бюджет муниципального образования «Почепский сельсовет» на 201</a:t>
            </a:r>
            <a:r>
              <a:rPr b="1" lang="en-US" sz="1400" spc="-1" strike="noStrike">
                <a:solidFill>
                  <a:srgbClr val="04617b"/>
                </a:solidFill>
                <a:latin typeface="Arial"/>
              </a:rPr>
              <a:t>9</a:t>
            </a: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 год и на плановый период 20</a:t>
            </a:r>
            <a:r>
              <a:rPr b="1" lang="en-US" sz="1400" spc="-1" strike="noStrike">
                <a:solidFill>
                  <a:srgbClr val="04617b"/>
                </a:solidFill>
                <a:latin typeface="Arial"/>
              </a:rPr>
              <a:t>20</a:t>
            </a: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и 202</a:t>
            </a:r>
            <a:r>
              <a:rPr b="1" lang="en-US" sz="1400" spc="-1" strike="noStrike">
                <a:solidFill>
                  <a:srgbClr val="04617b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 годов утверждён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Почепского сельсовета. В течении года  производится уточнение бюджета муниципального образования «Почепский сельсовет»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2908440" y="2560680"/>
            <a:ext cx="321768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495c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Бюджет –это форма образования и расходования денежных средств, предназначенных для реш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12" descr=""/>
          <p:cNvPicPr/>
          <p:nvPr/>
        </p:nvPicPr>
        <p:blipFill>
          <a:blip r:embed="rId2"/>
          <a:stretch/>
        </p:blipFill>
        <p:spPr>
          <a:xfrm>
            <a:off x="500040" y="714240"/>
            <a:ext cx="1581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3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 муниципального образования «Почепский сельсовет» составлен и утвержден сроком на один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46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47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ых программах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pic>
        <p:nvPicPr>
          <p:cNvPr id="253" name="Picture 23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3" descr=""/>
          <p:cNvPicPr/>
          <p:nvPr/>
        </p:nvPicPr>
        <p:blipFill>
          <a:blip r:embed="rId4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56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j0186002"/>
          <p:cNvPicPr/>
          <p:nvPr/>
        </p:nvPicPr>
        <p:blipFill>
          <a:blip r:embed="rId3"/>
          <a:stretch/>
        </p:blipFill>
        <p:spPr>
          <a:xfrm>
            <a:off x="7072200" y="2000160"/>
            <a:ext cx="1952640" cy="20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68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год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1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1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8" name="Picture 29" descr=""/>
          <p:cNvPicPr/>
          <p:nvPr/>
        </p:nvPicPr>
        <p:blipFill>
          <a:blip r:embed="rId2"/>
          <a:stretch/>
        </p:blipFill>
        <p:spPr>
          <a:xfrm>
            <a:off x="3000240" y="2571840"/>
            <a:ext cx="309744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8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0 и 2021 годы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-2021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36,3          512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36,3       512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           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90" name="Picture 29" descr=""/>
          <p:cNvPicPr/>
          <p:nvPr/>
        </p:nvPicPr>
        <p:blipFill>
          <a:blip r:embed="rId2"/>
          <a:stretch/>
        </p:blipFill>
        <p:spPr>
          <a:xfrm>
            <a:off x="2071800" y="2571840"/>
            <a:ext cx="309708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9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ы бюджета муниципального образования «Почепски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Физических ли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3" name="Прямая со стрелкой 5"/>
          <p:cNvCxnSpPr>
            <a:stCxn id="302" idx="6"/>
            <a:endCxn id="301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>
            <a:stCxn id="305" idx="2"/>
            <a:endCxn id="301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6" name="Прямая со стрелкой 12"/>
          <p:cNvCxnSpPr>
            <a:endCxn id="301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307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от других бюджетов в виде дотаций, субсидий, субвенций и иных  межбюджетных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трансферт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доходы от использования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муниципального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0" descr=""/>
          <p:cNvPicPr/>
          <p:nvPr/>
        </p:nvPicPr>
        <p:blipFill>
          <a:blip r:embed="rId2"/>
          <a:stretch/>
        </p:blipFill>
        <p:spPr>
          <a:xfrm>
            <a:off x="642960" y="3857760"/>
            <a:ext cx="1681200" cy="1544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3"/>
          <a:stretch/>
        </p:blipFill>
        <p:spPr>
          <a:xfrm>
            <a:off x="5929200" y="4429080"/>
            <a:ext cx="1117800" cy="99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7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2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8" descr=""/>
          <p:cNvPicPr/>
          <p:nvPr/>
        </p:nvPicPr>
        <p:blipFill>
          <a:blip r:embed="rId4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8" descr=""/>
          <p:cNvPicPr/>
          <p:nvPr/>
        </p:nvPicPr>
        <p:blipFill>
          <a:blip r:embed="rId5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Cifromarket</cp:lastModifiedBy>
  <dcterms:modified xsi:type="dcterms:W3CDTF">2019-01-14T09:25:07Z</dcterms:modified>
  <cp:revision>202</cp:revision>
  <dc:subject/>
  <dc:title>Презентация PowerPoint</dc:title>
</cp:coreProperties>
</file>