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641-DBAD-472B-9C4C-4EB62748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FD1-EA86-4938-825C-BF57251E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80D-623C-450D-B025-78273449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2C0-9FD9-4D2C-9AF6-676A9DCF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7A61-A773-4E35-A543-7B739B7A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057F-2408-49AD-8628-FE90BC38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7CC1-C7FA-4B51-B0F2-68996F83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AA33-7F42-4507-89AA-5FB78F74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B8DC-6D70-4DE7-A76F-529654B5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E923-F5CA-4A3E-BF5E-CD64E535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42F5-8E13-4B6B-80DA-4708357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A2E-6D14-4A65-B38E-1646546E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E7EB-42AE-4A2A-B7DE-95EF7300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85C2-F7D6-45A3-B1C3-75BE5385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C7CF-4F34-4588-A618-F48B6944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5941-39BD-4895-8C6E-4575C0F2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6A7D-1E7C-49D6-BDFE-5A9E854A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733A-7577-46AA-B21F-0E2F7915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51CC-FF80-47D8-8CC7-53008905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9C54-6DDE-425A-A724-A26F0460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F0B9-D533-4DFC-80F6-CE39FA03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41898-7139-4760-B638-80631AB1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CAF-E703-4CB9-B8A2-1D3D7990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EAF3A-6713-4336-8353-F5D37800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E56C-1F7C-4063-8D0D-90925C0A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4A83-9C1D-4EBA-8926-F858BF14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3680-4B9D-4950-A02C-75E06DE7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4C6B-98F5-4885-AA3C-D64351AF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53DBA-728A-45C9-BA7A-8B0184A6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1142-5BCA-4165-AE67-279B4EC8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4BE2D-38C3-40E9-9621-7EFA0A9C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A7956-9D97-4E9B-8D2B-CAA30908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AC083-155F-4651-9291-0360C102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D34-61EF-47E2-B026-3EDDE8BE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F80F-8B90-41CA-9858-6751C3CF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35CC-6180-476F-BF01-706264AF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C545-EEEB-4403-B67E-D6FDCB34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2FCFB-36D3-4C5F-B843-8D371A0B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554AC-90B8-4D49-AFF6-7826264C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387FA-4807-4681-8589-917CAA11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D94C-6933-49FD-BBC0-BDF228E4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67786-5AD4-4EF5-9838-8A95A543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93CB3-48D7-49FF-9F16-98F84027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360-1159-4DBB-AE87-A0E39418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DCD-91D1-490E-A59F-49FBBE7A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E4A-E686-4E43-8C88-B234A2DA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8EE-579C-46AC-980E-F0B50D21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8ED-D733-4249-927F-1947E437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3E98-09C8-46E3-825E-BD61D7F5F37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FE1F-FE46-4AF0-AD78-BBB1242EFF76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F66E-3516-44C6-9FE2-E981C2EFCA91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2755-F731-4C8F-982F-B4C347B0127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РОЕК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  решению Собрания депутатов Почепского сельсовета  «О бюджете муниципального образования «Почепский сельсовет» Дмитриевского района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на 2020 год и на плановый период 2021 и 2022 годов»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2400" y="133200"/>
            <a:ext cx="1092240" cy="1268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Documents and Settings\XxX\Рабочий стол\Почепской сельсовет Баннер (4).jpg"/>
          <p:cNvPicPr/>
          <p:nvPr/>
        </p:nvPicPr>
        <p:blipFill>
          <a:blip r:embed="rId4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27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39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-2022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9,9                   5623,7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4,3                   256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9                        8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                             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,0                        2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                              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3,5                      244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,0                          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                              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4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0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в муниципальном образовании «Почепский сельсовет» на 2020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0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5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-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1-2022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3,5      244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1-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          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ий сельсовет» на  2021-2022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,0            2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1-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            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1-2022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,9         2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6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9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Picture 29" descr="http://www.kdmt46.ru/rnewsfiles/10/36167jenshhiny.jpg"/>
          <p:cNvPicPr/>
          <p:nvPr/>
        </p:nvPicPr>
        <p:blipFill>
          <a:blip r:embed="rId2"/>
          <a:stretch/>
        </p:blipFill>
        <p:spPr>
          <a:xfrm>
            <a:off x="2195640" y="2852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71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85840" y="466560"/>
          <a:ext cx="8318520" cy="224496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-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-2021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0" name="Picture 27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385596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7796520" cy="5759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68360" y="126828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20 год и на плановый период 20</a:t>
            </a:r>
            <a:r>
              <a:rPr b="1" lang="en-US" sz="1400" spc="-1" strike="noStrike">
                <a:solidFill>
                  <a:srgbClr val="04617b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1 и 2022 годов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2908440" y="2560680"/>
            <a:ext cx="32176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6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7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3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56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6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0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9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9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1 и 2022 годы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-2022 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9,9          562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9,9          562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           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0" name="Picture 29" descr=""/>
          <p:cNvPicPr/>
          <p:nvPr/>
        </p:nvPicPr>
        <p:blipFill>
          <a:blip r:embed="rId2"/>
          <a:stretch/>
        </p:blipFill>
        <p:spPr>
          <a:xfrm>
            <a:off x="2071800" y="2571840"/>
            <a:ext cx="309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9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Прямая со стрелкой 5"/>
          <p:cNvCxnSpPr>
            <a:stCxn id="302" idx="6"/>
            <a:endCxn id="301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>
            <a:stCxn id="305" idx="2"/>
            <a:endCxn id="301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6" name="Прямая со стрелкой 12"/>
          <p:cNvCxnSpPr>
            <a:endCxn id="301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307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9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8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8" descr=""/>
          <p:cNvPicPr/>
          <p:nvPr/>
        </p:nvPicPr>
        <p:blipFill>
          <a:blip r:embed="rId5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Cifromarket</cp:lastModifiedBy>
  <dcterms:modified xsi:type="dcterms:W3CDTF">2019-12-03T11:55:31Z</dcterms:modified>
  <cp:revision>208</cp:revision>
  <dc:subject/>
  <dc:title>Презентация PowerPoint</dc:title>
</cp:coreProperties>
</file>