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1B8-2355-43CE-AB59-AFC4C13F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341-C26F-4AE6-A8C6-B72AE33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FF5-6A8B-4EAC-981E-246D2AF4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421-F6DE-4C2B-8992-F1534E6E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832-FFE3-4BD5-B8EC-EC6DE4B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4F4-FF74-4E4F-8A92-10728F1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43BE-842A-4B39-97A0-702EAED9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71BA-D4BA-458F-AB46-71F8A3F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6F4-3271-4B8C-9E9D-ECA88F5B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769-2D7A-4FAD-8CE8-626BDC28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7D3-096F-4079-BEC1-3311C9F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4AA-9A70-4ABA-AB99-2BD7F7A8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4305-60FD-412A-BAB2-D07085F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084C-9C5B-4C64-AC74-ECF2397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5911-C601-4868-9F2D-9BEDFB9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3ECD-8032-4C4C-A2AC-08E5EBEE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16F6-B848-4034-8C58-CA9FBA1B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9880-8774-4F24-B8BD-CCE9C32B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501A-639D-4405-B128-9E3E835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A3D5-3398-4DF0-89D8-734CFF9D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DB45-D375-4287-B7B8-8DA4683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860B-63C4-4E75-9228-66BB073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118-9141-4E50-89DE-7F29273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A316-7AC8-40F0-A031-36A15D4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53C9-BE20-4849-B5CF-302DA6F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BFAA-D94F-4984-B379-50B882D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814A-E879-4909-93A0-C6424D17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757B-6571-4B97-B228-10DC203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D62E-E34E-427F-A359-F201BE0F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F3BA-E890-4AC1-AC1C-935F0E8D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55F5-7CC3-4620-A9C6-A03A23B3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01AB-B0D8-4D59-BCF6-62E28C5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930E-2836-445B-A2B6-95FCFBB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764-3FA7-44D0-A4B7-7A60F033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6AEF-2B80-48AF-99CD-F59B66E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0871-FD72-45A6-B1CB-37A32479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03C5-EBF7-4D2E-86CA-281A79F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F7A4-7550-4795-837F-E18E992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5E7D-FBD6-4AFC-8FA8-A3D96F6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B937-597A-4CCB-B0DD-737302E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A4FF-4920-4749-AEF2-81183B10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7DE6-1F8A-474E-BB24-7F8913F2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289F-5680-4DC4-8563-C6322EB9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DEE-9F30-45C7-9FEE-A04CE4FB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EE0-BF1D-4D6D-8208-C680FF9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BA4-9CCF-48BD-A102-F2F0B70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A05-A816-4429-B204-166A503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A03-C3AB-4481-A4B3-BA0A93D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619-D3B6-4536-BC43-DA4985251AC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4BB4-7211-47B3-BB0F-D7673827FFE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8DBC-500E-4619-BCF4-6F3D1B8B47E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528-2340-4234-B264-562A2C78632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20 год и на плановый период 2021 и 2022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-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         5623,7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4,3                   25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9                        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0                        2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3,5                      24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0                          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                             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0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0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0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1-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3,5      244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1-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          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1-2022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0            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1-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            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1-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9         2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9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0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1 и 2022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08440" y="2560680"/>
            <a:ext cx="3217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0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1 и 2022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-2022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562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562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Windows User</cp:lastModifiedBy>
  <dcterms:modified xsi:type="dcterms:W3CDTF">2020-02-11T14:00:55Z</dcterms:modified>
  <cp:revision>209</cp:revision>
  <dc:subject/>
  <dc:title>Презентация PowerPoint</dc:title>
</cp:coreProperties>
</file>