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DF6-96AC-4FA0-8434-153D7241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F92-30A6-4D3A-82F1-7949A8B2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868-8586-45D9-B8A0-73BC52C8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1AC-1A99-4C5B-BFD8-57A9FC64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6BFA-FBBF-4784-B71B-18773E14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9C93-4DA5-45CD-A7C1-E8C7FEDF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ABC8-75E2-4E57-AE9D-69CFDB27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9013-416A-492A-AFCC-DDA97299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01FC-0EFB-4DEC-AA41-6CE38B16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7200-42F3-4CC8-892D-B36CA364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DBEC-ED22-45B8-8223-6202288F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C03-DEA2-4584-A2C9-FAA553DD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05D7-0DD9-424A-BF78-54075D0D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AED1-FF0F-4F84-9866-D97B44FB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D567-1CC8-4392-A5BA-0F0B0050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CDAF-D4C2-45AD-BD69-3BFC4E92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4D70-7247-4E0B-9A67-1598C189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4584-182A-4AC7-B24C-968956A1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066B-14A1-41B9-99CC-7CA515C5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8AD8-2C3F-4953-95D4-48FFE995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C436-F64E-48C3-8837-47E9DF12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AF9E-EF60-40C8-8954-1CAE6291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3A5-B236-42C8-9F6A-AE6BE5ED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9EAD-CFE8-4070-98DF-BA57A0D3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ED14-50D4-4AB6-B7E7-B4B7D269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8FF3-52A2-4C16-B9DA-54D8176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710E-0BA3-4755-A5F5-3CDBB8DD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624C-B991-480E-8B7A-DFCAB6AB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11B2-2AF5-4175-8757-D077A690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56C4-342E-47B0-87FD-F5C5987E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0605-586D-4B86-BDA6-7EF1A52A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7243-5F2E-480B-9C84-157A330F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1A29D-D6E0-4365-89E4-A729895F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A71-1523-4365-AF79-DFE3AA1C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AF682-512A-451F-A445-88D36D52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FEBB-0856-4279-8359-46BEDDE5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EB17-B4CE-4C6B-A94F-A49C3B8E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C6D2-A7BF-4C30-8578-91BD3736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18A4-3A99-4432-ADF4-A5AE6EB3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43F8-9C01-4A9F-A243-E6E2DB3D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7E40-BC5D-4297-8023-58B90D42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892F8-D48A-4853-9555-532200EE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13E9-862D-4506-AF67-9D5EAE67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512-6582-4DA9-9BEA-1347E62C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4A1-C729-437C-9CE8-C0901BC3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D04-FDD2-4463-932F-A5EB2A45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810-02F5-4AE2-BF0F-6E4B2A01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117-6576-4038-8744-D5387E94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4105-6882-45D5-B215-7FB7D412412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E288-D999-4E85-AA7C-114188440B96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EC05-73AC-47F8-A049-9638AA63E3B5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CDAC-C0BE-4288-97DC-8BB9204C964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  решению Собрания депутатов Почепского сельсовета  «О бюджете муниципального образования «Почепский сельсовет» Дмитриевского района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на 2021 год и на плановый период 2022 и 2023 годов»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2400" y="133200"/>
            <a:ext cx="1092240" cy="1268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Documents and Settings\XxX\Рабочий стол\Почепской сельсовет Баннер (4).jpg"/>
          <p:cNvPicPr/>
          <p:nvPr/>
        </p:nvPicPr>
        <p:blipFill>
          <a:blip r:embed="rId4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27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-2023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11,8              798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51,8                  410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2                      9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,0                        2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6,2                      278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,4                        3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                              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4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1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в муниципальном образовании «Почепский сельсовет» на 2021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5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1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5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-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2-2023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6,2            2789,7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2-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,4          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ий сельсовет» на  2022-2023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,0            2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2-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            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2-2023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,9         2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6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1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Picture 29" descr="http://www.kdmt46.ru/rnewsfiles/10/36167jenshhiny.jpg"/>
          <p:cNvPicPr/>
          <p:nvPr/>
        </p:nvPicPr>
        <p:blipFill>
          <a:blip r:embed="rId2"/>
          <a:stretch/>
        </p:blipFill>
        <p:spPr>
          <a:xfrm>
            <a:off x="2195640" y="2852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71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85840" y="466560"/>
          <a:ext cx="8318520" cy="224496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-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-2023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       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0" name="Picture 27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385596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7796520" cy="5759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68360" y="126828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21 год и на плановый период 20</a:t>
            </a:r>
            <a:r>
              <a:rPr b="1" lang="en-US" sz="1400" spc="-1" strike="noStrike">
                <a:solidFill>
                  <a:srgbClr val="04617b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2 и 2023 годов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2908440" y="2560680"/>
            <a:ext cx="32176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6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7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3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56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6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1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6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6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2 и 2023 годы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-2023 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11,8          79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11,8          79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           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0" name="Picture 29" descr=""/>
          <p:cNvPicPr/>
          <p:nvPr/>
        </p:nvPicPr>
        <p:blipFill>
          <a:blip r:embed="rId2"/>
          <a:stretch/>
        </p:blipFill>
        <p:spPr>
          <a:xfrm>
            <a:off x="2071800" y="2571840"/>
            <a:ext cx="309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9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Прямая со стрелкой 5"/>
          <p:cNvCxnSpPr>
            <a:stCxn id="302" idx="6"/>
            <a:endCxn id="301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>
            <a:stCxn id="305" idx="2"/>
            <a:endCxn id="301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6" name="Прямая со стрелкой 12"/>
          <p:cNvCxnSpPr>
            <a:endCxn id="301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307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6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5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8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8" descr=""/>
          <p:cNvPicPr/>
          <p:nvPr/>
        </p:nvPicPr>
        <p:blipFill>
          <a:blip r:embed="rId5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Windows User</cp:lastModifiedBy>
  <dcterms:modified xsi:type="dcterms:W3CDTF">2020-12-15T12:32:13Z</dcterms:modified>
  <cp:revision>214</cp:revision>
  <dc:subject/>
  <dc:title>Презентация PowerPoint</dc:title>
</cp:coreProperties>
</file>