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CCD-D695-4EEC-ABA3-DBF882A3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DF9-21ED-425E-A411-34E2C4F2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FE8-5DB0-4A9D-856C-B80CD1C0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A38-6708-415E-B9E5-856AD864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E593-AB86-4DF6-A01C-66DF6D5D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F1CE-A36F-47AB-909A-D969CAED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DACB-8A88-4AF7-BA15-FBB83FF2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D49E-1870-42DB-A5DB-97531AC9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B1E5-9B75-4B02-9AE5-F1D3AE4C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1A0A-D7D9-481B-9AB1-1E43B2FE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D9D7-04AA-4F37-A3B0-70D65FE1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B45-D037-43C2-82E2-3749BA67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D631-3FCA-4357-BF5D-B3816B10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AEF4-A381-47C7-9D57-106245E3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9137-AB2E-4147-8699-FB7827C0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1552-9650-4551-9814-D8383D02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FAB3-76F2-489D-9C18-348F4E98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FE383-C5E2-41CF-BD80-1915ADE1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AC899-CA5C-4908-BC6F-E85A6F87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86369-AA86-468C-8C57-C93F248F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0B9D3-D4DB-4D0C-AA94-F8EFEB46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56091-36F9-4A93-BF36-7D1F8126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13B-C114-4E3F-89D4-5069B450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686EA-C92C-4680-924D-7DD8078E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FBCBB-87E8-457E-A80A-000AAD6A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A553D-A8A0-40A5-940F-4EACCBAD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F62DA-B187-461F-8906-C97CA19F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AA637-A861-4EA4-8891-F7E304AF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40F84-CFA1-4EBA-B32C-EDB8BB78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17BF7-35C8-4757-8428-1AD693F4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49D9E-087E-4882-B311-FA3C3FAE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61D56-22F9-4501-89EE-E733F3DB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560A7-581A-46A5-91D1-BC1D41E0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201-5A3B-4011-B24F-EF93280D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C90FE-D9D2-43E9-906E-3E66A064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7815A-435D-411B-BB37-5DAA8C55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4C5E8-7B35-46C7-8183-759409C0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06597-21E5-4A6A-A423-8A2A58BC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43421-9500-4D73-BFD8-BA5CA6E1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631CC-15B3-4717-A9B3-8D950D5D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BAA7F-9D83-467A-8713-41DC9150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0FE12-D8F8-42CD-B47E-C946F51D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9BD70-AA9E-4E14-9B1F-B8C71F49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BB3-B0AF-4A34-B990-DD93F7E7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EA1-8EEC-4330-AD34-519E4774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24A-D81C-4909-876D-6355A322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F185-63B9-4A2E-9646-AB5F92B4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D03-B219-400C-BF21-AA7DA8F1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7664-0936-48D6-B021-63F32E7289EE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ED60-4FE3-4ED1-9D35-214676999B0A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B22B-3E21-49C2-871E-699833D9834A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7918-4F89-42B9-B725-82CB6FC8E9F1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2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роек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Бюджета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для граждан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к  решению Собрания депутатов Почепского сельсовета  «О бюджете муниципального образования «Почепский сельсовет» Дмитриевского района Курской области </a:t>
            </a: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на 2022 год и на плановый период 2023 и 2024 годов»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1" descr="http://cs403018.vk.me/v403018988/4228/4hyM1kjbv5M.jpg"/>
          <p:cNvPicPr/>
          <p:nvPr/>
        </p:nvPicPr>
        <p:blipFill>
          <a:blip r:embed="rId2"/>
          <a:stretch/>
        </p:blipFill>
        <p:spPr>
          <a:xfrm>
            <a:off x="3998880" y="139680"/>
            <a:ext cx="1079640" cy="1255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19" descr="C:\Documents and Settings\XxX\Рабочий стол\Почепской сельсовет Баннер (4).jpg"/>
          <p:cNvPicPr/>
          <p:nvPr/>
        </p:nvPicPr>
        <p:blipFill>
          <a:blip r:embed="rId3"/>
          <a:stretch/>
        </p:blipFill>
        <p:spPr>
          <a:xfrm>
            <a:off x="3357720" y="142884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C:\Documents and Settings\XxX\Рабочий стол\Почепской сельсовет Баннер (4).jpg"/>
          <p:cNvPicPr/>
          <p:nvPr/>
        </p:nvPicPr>
        <p:blipFill>
          <a:blip r:embed="rId4"/>
          <a:stretch/>
        </p:blipFill>
        <p:spPr>
          <a:xfrm>
            <a:off x="3357720" y="142884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Text Box 2"/>
          <p:cNvGrpSpPr/>
          <p:nvPr/>
        </p:nvGrpSpPr>
        <p:grpSpPr>
          <a:xfrm>
            <a:off x="6480" y="0"/>
            <a:ext cx="9137520" cy="6151680"/>
            <a:chOff x="6480" y="0"/>
            <a:chExt cx="9137520" cy="6151680"/>
          </a:xfrm>
        </p:grpSpPr>
        <p:pic>
          <p:nvPicPr>
            <p:cNvPr id="327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1080"/>
              <a:ext cx="9137520" cy="614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6480" y="0"/>
              <a:ext cx="9137520" cy="61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9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и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52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-2024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24,2              860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6,2                 300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,5                       9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                         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6,1                   156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2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                           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0,7                      310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6,0                        3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0                              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37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Text Box 2"/>
          <p:cNvGrpSpPr/>
          <p:nvPr/>
        </p:nvGrpSpPr>
        <p:grpSpPr>
          <a:xfrm>
            <a:off x="6480" y="6480"/>
            <a:ext cx="9131040" cy="6156360"/>
            <a:chOff x="6480" y="6480"/>
            <a:chExt cx="9131040" cy="6156360"/>
          </a:xfrm>
        </p:grpSpPr>
        <p:pic>
          <p:nvPicPr>
            <p:cNvPr id="34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104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22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9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в муниципальном образовании «Почепский сельсовет» на 2022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ий сельсовет» на 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22 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Text Box 2"/>
          <p:cNvGrpSpPr/>
          <p:nvPr/>
        </p:nvGrpSpPr>
        <p:grpSpPr>
          <a:xfrm>
            <a:off x="6480" y="6480"/>
            <a:ext cx="9131040" cy="6156360"/>
            <a:chOff x="6480" y="6480"/>
            <a:chExt cx="9131040" cy="6156360"/>
          </a:xfrm>
        </p:grpSpPr>
        <p:pic>
          <p:nvPicPr>
            <p:cNvPr id="35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104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-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23-2024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0,7            3108,0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23-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,0         32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граждан в муниципальном образовании «Почепский сельсовет» на  2023-2024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6,1        156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ий сельсовет» на 2023-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            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23-2024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2        30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Text Box 2"/>
          <p:cNvGrpSpPr/>
          <p:nvPr/>
        </p:nvGrpSpPr>
        <p:grpSpPr>
          <a:xfrm>
            <a:off x="12600" y="0"/>
            <a:ext cx="9131400" cy="6156360"/>
            <a:chOff x="12600" y="0"/>
            <a:chExt cx="9131400" cy="6156360"/>
          </a:xfrm>
        </p:grpSpPr>
        <p:pic>
          <p:nvPicPr>
            <p:cNvPr id="360" name="Text Box 2" descr=""/>
            <p:cNvPicPr/>
            <p:nvPr/>
          </p:nvPicPr>
          <p:blipFill>
            <a:blip r:embed="rId1"/>
            <a:stretch/>
          </p:blipFill>
          <p:spPr>
            <a:xfrm>
              <a:off x="12600" y="0"/>
              <a:ext cx="913140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85840" y="466560"/>
          <a:ext cx="8318520" cy="208764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22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9" name="Picture 29" descr="http://www.kdmt46.ru/rnewsfiles/10/36167jenshhiny.jpg"/>
          <p:cNvPicPr/>
          <p:nvPr/>
        </p:nvPicPr>
        <p:blipFill>
          <a:blip r:embed="rId2"/>
          <a:stretch/>
        </p:blipFill>
        <p:spPr>
          <a:xfrm>
            <a:off x="2195640" y="28526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Text Box 2"/>
          <p:cNvGrpSpPr/>
          <p:nvPr/>
        </p:nvGrpSpPr>
        <p:grpSpPr>
          <a:xfrm>
            <a:off x="12600" y="0"/>
            <a:ext cx="9131400" cy="6156360"/>
            <a:chOff x="12600" y="0"/>
            <a:chExt cx="9131400" cy="6156360"/>
          </a:xfrm>
        </p:grpSpPr>
        <p:pic>
          <p:nvPicPr>
            <p:cNvPr id="371" name="Text Box 2" descr=""/>
            <p:cNvPicPr/>
            <p:nvPr/>
          </p:nvPicPr>
          <p:blipFill>
            <a:blip r:embed="rId1"/>
            <a:stretch/>
          </p:blipFill>
          <p:spPr>
            <a:xfrm>
              <a:off x="12600" y="0"/>
              <a:ext cx="913140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85840" y="466560"/>
          <a:ext cx="8318520" cy="224496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88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-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         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-2024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       3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0" name="Picture 27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385596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1000080" y="285840"/>
            <a:ext cx="7783560" cy="57499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1571760" y="357120"/>
            <a:ext cx="842760" cy="1071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3"/>
          <a:stretch/>
        </p:blipFill>
        <p:spPr>
          <a:xfrm>
            <a:off x="3500280" y="5429160"/>
            <a:ext cx="215604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1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468360" y="1268280"/>
            <a:ext cx="80643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Бюджет муниципального образования «Почепский сельсовет» на 2022 год и на плановый период 20</a:t>
            </a:r>
            <a:r>
              <a:rPr b="1" lang="en-US" sz="1400" spc="-1" strike="noStrike">
                <a:solidFill>
                  <a:srgbClr val="04617b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3 и 2024 годов утверждён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Почепского сельсовета. В течении года  производится уточнение бюджета муниципального образования «Почепский сельсовет»</a:t>
            </a: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2914560" y="2567160"/>
            <a:ext cx="3205080" cy="179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2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3495c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Бюджет –это форма образования и расходования денежных средств, предназначенных для реш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12" descr=""/>
          <p:cNvPicPr/>
          <p:nvPr/>
        </p:nvPicPr>
        <p:blipFill>
          <a:blip r:embed="rId2"/>
          <a:stretch/>
        </p:blipFill>
        <p:spPr>
          <a:xfrm>
            <a:off x="500040" y="714240"/>
            <a:ext cx="15811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33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 муниципального образования «Почепский сельсовет» составлен и утвержден сроком на один го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7600" y="2097000"/>
            <a:ext cx="7480440" cy="7858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5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46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47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ных программах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pic>
        <p:nvPicPr>
          <p:cNvPr id="253" name="Picture 23" descr=""/>
          <p:cNvPicPr/>
          <p:nvPr/>
        </p:nvPicPr>
        <p:blipFill>
          <a:blip r:embed="rId3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3" descr=""/>
          <p:cNvPicPr/>
          <p:nvPr/>
        </p:nvPicPr>
        <p:blipFill>
          <a:blip r:embed="rId4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Text Box 2"/>
          <p:cNvGrpSpPr/>
          <p:nvPr/>
        </p:nvGrpSpPr>
        <p:grpSpPr>
          <a:xfrm>
            <a:off x="0" y="0"/>
            <a:ext cx="9137520" cy="6156360"/>
            <a:chOff x="0" y="0"/>
            <a:chExt cx="9137520" cy="6156360"/>
          </a:xfrm>
        </p:grpSpPr>
        <p:pic>
          <p:nvPicPr>
            <p:cNvPr id="25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Picture 13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j0186002"/>
          <p:cNvPicPr/>
          <p:nvPr/>
        </p:nvPicPr>
        <p:blipFill>
          <a:blip r:embed="rId3"/>
          <a:stretch/>
        </p:blipFill>
        <p:spPr>
          <a:xfrm>
            <a:off x="7072200" y="2000160"/>
            <a:ext cx="1952640" cy="20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Text Box 2"/>
          <p:cNvGrpSpPr/>
          <p:nvPr/>
        </p:nvGrpSpPr>
        <p:grpSpPr>
          <a:xfrm>
            <a:off x="6480" y="0"/>
            <a:ext cx="9137520" cy="6156360"/>
            <a:chOff x="6480" y="0"/>
            <a:chExt cx="9137520" cy="6156360"/>
          </a:xfrm>
        </p:grpSpPr>
        <p:pic>
          <p:nvPicPr>
            <p:cNvPr id="268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ий сельсовет» на 2022 год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78" name="Picture 29" descr=""/>
          <p:cNvPicPr/>
          <p:nvPr/>
        </p:nvPicPr>
        <p:blipFill>
          <a:blip r:embed="rId2"/>
          <a:stretch/>
        </p:blipFill>
        <p:spPr>
          <a:xfrm>
            <a:off x="3000240" y="2571840"/>
            <a:ext cx="309744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Text Box 2"/>
          <p:cNvGrpSpPr/>
          <p:nvPr/>
        </p:nvGrpSpPr>
        <p:grpSpPr>
          <a:xfrm>
            <a:off x="6480" y="0"/>
            <a:ext cx="9137520" cy="6156360"/>
            <a:chOff x="6480" y="0"/>
            <a:chExt cx="9137520" cy="6156360"/>
          </a:xfrm>
        </p:grpSpPr>
        <p:pic>
          <p:nvPicPr>
            <p:cNvPr id="28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ий сельсовет» на 2023 и 2024 годы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-2024 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24,2          860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24,2          860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           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90" name="Picture 29" descr=""/>
          <p:cNvPicPr/>
          <p:nvPr/>
        </p:nvPicPr>
        <p:blipFill>
          <a:blip r:embed="rId2"/>
          <a:stretch/>
        </p:blipFill>
        <p:spPr>
          <a:xfrm>
            <a:off x="2071800" y="2571840"/>
            <a:ext cx="309708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9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ходы бюджета муниципального образования «Почепски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Физических ли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3" name="Прямая со стрелкой 5"/>
          <p:cNvCxnSpPr>
            <a:stCxn id="302" idx="6"/>
            <a:endCxn id="301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304" name="Прямая со стрелкой 7"/>
          <p:cNvCxnSpPr>
            <a:stCxn id="305" idx="2"/>
            <a:endCxn id="301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306" name="Прямая со стрелкой 12"/>
          <p:cNvCxnSpPr>
            <a:endCxn id="301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307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от других бюджетов в виде дотаций, субсидий, субвенций и иных  межбюджетных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трансферт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20" descr=""/>
          <p:cNvPicPr/>
          <p:nvPr/>
        </p:nvPicPr>
        <p:blipFill>
          <a:blip r:embed="rId2"/>
          <a:stretch/>
        </p:blipFill>
        <p:spPr>
          <a:xfrm>
            <a:off x="642960" y="3857760"/>
            <a:ext cx="1681200" cy="1544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"/>
          <p:cNvPicPr/>
          <p:nvPr/>
        </p:nvPicPr>
        <p:blipFill>
          <a:blip r:embed="rId3"/>
          <a:stretch/>
        </p:blipFill>
        <p:spPr>
          <a:xfrm>
            <a:off x="6804000" y="3789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6480" y="0"/>
            <a:ext cx="9137520" cy="6151680"/>
            <a:chOff x="6480" y="0"/>
            <a:chExt cx="9137520" cy="615168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1080"/>
              <a:ext cx="9137520" cy="614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0"/>
              <a:ext cx="9137520" cy="61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и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52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2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2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22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8" descr=""/>
          <p:cNvPicPr/>
          <p:nvPr/>
        </p:nvPicPr>
        <p:blipFill>
          <a:blip r:embed="rId4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8" descr=""/>
          <p:cNvPicPr/>
          <p:nvPr/>
        </p:nvPicPr>
        <p:blipFill>
          <a:blip r:embed="rId5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Админ</cp:lastModifiedBy>
  <dcterms:modified xsi:type="dcterms:W3CDTF">2021-11-17T13:03:25Z</dcterms:modified>
  <cp:revision>217</cp:revision>
  <dc:subject/>
  <dc:title>Презентация PowerPoint</dc:title>
</cp:coreProperties>
</file>