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2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926E-B814-4401-981E-F95255A29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A929-8BB5-42B6-A75C-58F87C9E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ED8B-1D74-46A8-B128-95AB5F7C6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3D22-B15D-4086-B12E-B2F71C60A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6665-07BE-478A-8DBA-0B97B1C5D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2755-0538-48BB-9E3D-F02889D8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858A-2706-4CFB-B4D7-D06F432E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DCB9-42C0-4907-9756-6A9B0128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5810-AFAD-47CE-8B34-55DEDF2C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7D7C-2BCC-40CC-9D56-D245668A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FDE4-2CCA-4C4A-B01E-E8CA7820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4ABE-694C-4001-BE75-F663EBFC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762C-7F10-42A7-A071-E8A66BC7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C692-9FFF-4298-9CE3-2FA0B86D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FFDE-E708-4EAC-AE42-DE1D2D87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BD35-5EEA-411F-B28D-8C83586E6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396E-B150-4486-B4E4-6712CD14E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D8EEE-5385-4097-9B7F-2BACF5A38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54E16-EB5B-464D-A0B9-ECF33514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5EC74-59C7-4DB7-A8A7-D71A3A73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CC0B7-9C48-4D07-9EBC-28955BC6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76E1F-D39B-4AA9-8DEA-FBA75A89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F02F-3F0E-435F-9FB9-378E5FE2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15226-42D5-4D23-8D7D-379C597A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5A8AC-B898-4A6B-9ADB-E6B7193E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43555-B92A-477F-A130-109A3C72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7CC54-D8F4-4616-B60F-A703D02F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49F80-EB3F-4FC8-A5E5-D13EF59F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FE48C-A070-47ED-BA8F-202BCCA1A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881A8-65FB-416C-92BF-D32D302A5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DD068-F10E-485C-A226-85817D05B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94AAF-F92D-4E8C-A2FF-DF87A990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8310F-B526-4081-B9F3-D7EF321E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ADF8-CF9E-423A-AA80-09B52201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D717A-6AF2-4508-8DF9-9FC1EC97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18D05-4454-45D4-B694-4B7C2DE6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2A0B6-7708-479D-84DD-964EF05C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66486-D061-4D88-B0FE-12DE7C1E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473DF-8DC1-41C7-B537-92D58DAE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60E56-8386-44BC-A382-9C5A610E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61557-72E3-4B52-838F-920EE4C8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15A53-1DCB-402B-A3FE-3D53DA108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1A81F-7D93-489B-94DC-49D067282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F4F1-9709-4CB2-B80D-A8DA5D7A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60E9-8745-468E-BAD9-9271F371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4E57-BE03-475B-9E47-808CB5EF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8815-F6A2-4A58-8EC6-67E3A122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59AD-586F-4311-8C72-DE010929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6FCB-B6BA-4594-9BA2-3D600FEDCC93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0C53-8375-4E78-99B7-3178A8CE2F33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F4CD-8DAC-452C-8B1C-DC015270C0FF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D6E7-A941-43E9-A837-E782B64081E0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Text Box 2"/>
          <p:cNvGrpSpPr/>
          <p:nvPr/>
        </p:nvGrpSpPr>
        <p:grpSpPr>
          <a:xfrm>
            <a:off x="6480" y="6480"/>
            <a:ext cx="9137520" cy="6156360"/>
            <a:chOff x="6480" y="6480"/>
            <a:chExt cx="9137520" cy="6156360"/>
          </a:xfrm>
        </p:grpSpPr>
        <p:pic>
          <p:nvPicPr>
            <p:cNvPr id="196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91375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Бюджет 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для граждан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1600" spc="-1" strike="noStrike">
                <a:solidFill>
                  <a:srgbClr val="04617b"/>
                </a:solidFill>
                <a:latin typeface="Arial"/>
              </a:rPr>
              <a:t>к  решению Собрания депутатов Почепского сельсовета  «О бюджете муниципального образования «Почепский сельсовет» Дмитриевского района Курской области на 2022 год и на плановый период 2023 и 2024 годов»</a:t>
            </a:r>
            <a:r>
              <a:rPr b="1" lang="en-US" sz="16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4617b"/>
                </a:solidFill>
                <a:latin typeface="Arial"/>
              </a:rPr>
              <a:t>№57 от 08 декабря 2021 года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21" descr="http://cs403018.vk.me/v403018988/4228/4hyM1kjbv5M.jpg"/>
          <p:cNvPicPr/>
          <p:nvPr/>
        </p:nvPicPr>
        <p:blipFill>
          <a:blip r:embed="rId2"/>
          <a:stretch/>
        </p:blipFill>
        <p:spPr>
          <a:xfrm>
            <a:off x="3998880" y="139680"/>
            <a:ext cx="1079640" cy="12556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7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19" descr="C:\Documents and Settings\XxX\Рабочий стол\Почепской сельсовет Баннер (4).jpg"/>
          <p:cNvPicPr/>
          <p:nvPr/>
        </p:nvPicPr>
        <p:blipFill>
          <a:blip r:embed="rId3"/>
          <a:stretch/>
        </p:blipFill>
        <p:spPr>
          <a:xfrm>
            <a:off x="3357720" y="1428840"/>
            <a:ext cx="4033800" cy="3025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9" descr="C:\Documents and Settings\XxX\Рабочий стол\Почепской сельсовет Баннер (4).jpg"/>
          <p:cNvPicPr/>
          <p:nvPr/>
        </p:nvPicPr>
        <p:blipFill>
          <a:blip r:embed="rId4"/>
          <a:stretch/>
        </p:blipFill>
        <p:spPr>
          <a:xfrm>
            <a:off x="3357720" y="1428840"/>
            <a:ext cx="4033800" cy="243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Text Box 2"/>
          <p:cNvGrpSpPr/>
          <p:nvPr/>
        </p:nvGrpSpPr>
        <p:grpSpPr>
          <a:xfrm>
            <a:off x="6480" y="0"/>
            <a:ext cx="9137520" cy="6151680"/>
            <a:chOff x="6480" y="0"/>
            <a:chExt cx="9137520" cy="6151680"/>
          </a:xfrm>
        </p:grpSpPr>
        <p:pic>
          <p:nvPicPr>
            <p:cNvPr id="327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1080"/>
              <a:ext cx="9137520" cy="614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6480" y="0"/>
              <a:ext cx="9137520" cy="61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9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руктура расходов бюджет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муниципального образования «Почепский сельсовет»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по разделам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юджетной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лассификации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755640" y="836640"/>
          <a:ext cx="7848720" cy="3546360"/>
        </p:xfrm>
        <a:graphic>
          <a:graphicData uri="http://schemas.openxmlformats.org/drawingml/2006/table">
            <a:tbl>
              <a:tblPr/>
              <a:tblGrid>
                <a:gridCol w="1785960"/>
                <a:gridCol w="4160880"/>
                <a:gridCol w="1901880"/>
              </a:tblGrid>
              <a:tr h="523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3-2024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77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24,2              860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 вопро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6,2                 300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,5                       9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                         3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36,1                   156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2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                           3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, кинематограф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70,7                      310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7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6,0                        32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ческая культура и спор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0                              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337" name="Picture 58" descr=""/>
          <p:cNvPicPr/>
          <p:nvPr/>
        </p:nvPicPr>
        <p:blipFill>
          <a:blip r:embed="rId2"/>
          <a:stretch/>
        </p:blipFill>
        <p:spPr>
          <a:xfrm>
            <a:off x="1857240" y="435780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9" descr="C:\Documents and Settings\XxX\Рабочий стол\андрей(2)\БЮДЖЕТ ДЛЯ ГРАЖДАН муниципального образования «Кармановский сельсовет» Железногорского района Курской области на 2015 год и на плановый период 2016 и 2017 годов_files\img1.jpg"/>
          <p:cNvPicPr/>
          <p:nvPr/>
        </p:nvPicPr>
        <p:blipFill>
          <a:blip r:embed="rId3"/>
          <a:stretch/>
        </p:blipFill>
        <p:spPr>
          <a:xfrm>
            <a:off x="5715000" y="4429080"/>
            <a:ext cx="19209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Text Box 2"/>
          <p:cNvGrpSpPr/>
          <p:nvPr/>
        </p:nvGrpSpPr>
        <p:grpSpPr>
          <a:xfrm>
            <a:off x="6480" y="6480"/>
            <a:ext cx="9131040" cy="6156360"/>
            <a:chOff x="6480" y="6480"/>
            <a:chExt cx="9131040" cy="6156360"/>
          </a:xfrm>
        </p:grpSpPr>
        <p:pic>
          <p:nvPicPr>
            <p:cNvPr id="340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913104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6480" y="6480"/>
              <a:ext cx="913104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324000" y="549360"/>
          <a:ext cx="8351640" cy="5454720"/>
        </p:xfrm>
        <a:graphic>
          <a:graphicData uri="http://schemas.openxmlformats.org/drawingml/2006/table">
            <a:tbl>
              <a:tblPr/>
              <a:tblGrid>
                <a:gridCol w="6681600"/>
                <a:gridCol w="1670040"/>
              </a:tblGrid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азвитие культуры  в муниципальном образовании «Почепский сельсовет» на 2022 год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9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оциальная поддержка  граждан  Почепского сельсовета на 2022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беспечение доступным и комфортным жильём и коммунальными услугами граждан в муниципальном образовании «Почепский сельсовет» на 2022 год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4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овышение эффективности работы с молодежью, организация отдыха и оздоровления детей, молодежи, развитие физической культуры и спорта в муниципальном образовании «Почепский сельсовет» на 2022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Развитие муниципальной службы в Почепском сельсовете на 2022 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Text Box 2"/>
          <p:cNvGrpSpPr/>
          <p:nvPr/>
        </p:nvGrpSpPr>
        <p:grpSpPr>
          <a:xfrm>
            <a:off x="6480" y="6480"/>
            <a:ext cx="9131040" cy="6156360"/>
            <a:chOff x="6480" y="6480"/>
            <a:chExt cx="9131040" cy="6156360"/>
          </a:xfrm>
        </p:grpSpPr>
        <p:pic>
          <p:nvPicPr>
            <p:cNvPr id="350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913104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6480" y="6480"/>
              <a:ext cx="913104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324000" y="549360"/>
          <a:ext cx="8351640" cy="5454720"/>
        </p:xfrm>
        <a:graphic>
          <a:graphicData uri="http://schemas.openxmlformats.org/drawingml/2006/table">
            <a:tbl>
              <a:tblPr/>
              <a:tblGrid>
                <a:gridCol w="6681600"/>
                <a:gridCol w="1670040"/>
              </a:tblGrid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3-2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азвитие культуры  в муниципальном образовании «Почепский сельсовет» на 2023-2024 год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70,7            3108,0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оциальная поддержка  граждан  Почепского сельсовета на 2023-2024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6,0         32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беспечение доступным и комфортным жильём и коммунальными услугами граждан граждан в муниципальном образовании «Почепский сельсовет» на  2023-2024 год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6,1        156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овышение эффективности работы с молодежью, организация отдыха и оздоровления детей, молодежи, развитие физической культуры и спорта в муниципальном образовании «Почепский сельсовет» на 2023-2024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0            4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Развитие муниципальной службы в Почепском сельсовете на 2023-2024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2,2        30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Text Box 2"/>
          <p:cNvGrpSpPr/>
          <p:nvPr/>
        </p:nvGrpSpPr>
        <p:grpSpPr>
          <a:xfrm>
            <a:off x="12600" y="0"/>
            <a:ext cx="9131400" cy="6156360"/>
            <a:chOff x="12600" y="0"/>
            <a:chExt cx="9131400" cy="6156360"/>
          </a:xfrm>
        </p:grpSpPr>
        <p:pic>
          <p:nvPicPr>
            <p:cNvPr id="360" name="Text Box 2" descr=""/>
            <p:cNvPicPr/>
            <p:nvPr/>
          </p:nvPicPr>
          <p:blipFill>
            <a:blip r:embed="rId1"/>
            <a:stretch/>
          </p:blipFill>
          <p:spPr>
            <a:xfrm>
              <a:off x="12600" y="0"/>
              <a:ext cx="913140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12600" y="0"/>
              <a:ext cx="913140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285840" y="466560"/>
          <a:ext cx="8318520" cy="2087640"/>
        </p:xfrm>
        <a:graphic>
          <a:graphicData uri="http://schemas.openxmlformats.org/drawingml/2006/table">
            <a:tbl>
              <a:tblPr/>
              <a:tblGrid>
                <a:gridCol w="7030800"/>
                <a:gridCol w="1287720"/>
              </a:tblGrid>
              <a:tr h="72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офилактика правонарушений в Почепском сельсове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Защита населения и территории от чрезвычайных ситуаций, обеспечение пожарной безопасности и безопасности людей на водных объектах на 2022  год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9" name="Picture 29" descr="http://www.kdmt46.ru/rnewsfiles/10/36167jenshhiny.jpg"/>
          <p:cNvPicPr/>
          <p:nvPr/>
        </p:nvPicPr>
        <p:blipFill>
          <a:blip r:embed="rId2"/>
          <a:stretch/>
        </p:blipFill>
        <p:spPr>
          <a:xfrm>
            <a:off x="2195640" y="285264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Text Box 2"/>
          <p:cNvGrpSpPr/>
          <p:nvPr/>
        </p:nvGrpSpPr>
        <p:grpSpPr>
          <a:xfrm>
            <a:off x="12600" y="0"/>
            <a:ext cx="9131400" cy="6156360"/>
            <a:chOff x="12600" y="0"/>
            <a:chExt cx="9131400" cy="6156360"/>
          </a:xfrm>
        </p:grpSpPr>
        <p:pic>
          <p:nvPicPr>
            <p:cNvPr id="371" name="Text Box 2" descr=""/>
            <p:cNvPicPr/>
            <p:nvPr/>
          </p:nvPicPr>
          <p:blipFill>
            <a:blip r:embed="rId1"/>
            <a:stretch/>
          </p:blipFill>
          <p:spPr>
            <a:xfrm>
              <a:off x="12600" y="0"/>
              <a:ext cx="913140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12600" y="0"/>
              <a:ext cx="913140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3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285840" y="466560"/>
          <a:ext cx="8318520" cy="2244960"/>
        </p:xfrm>
        <a:graphic>
          <a:graphicData uri="http://schemas.openxmlformats.org/drawingml/2006/table">
            <a:tbl>
              <a:tblPr/>
              <a:tblGrid>
                <a:gridCol w="7030800"/>
                <a:gridCol w="1287720"/>
              </a:tblGrid>
              <a:tr h="88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3-2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офилактика правонарушений в Почепском сельсове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         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Защита населения и территории от чрезвычайных ситуаций, обеспечение пожарной безопасности и безопасности людей на водных объектах на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3-2024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год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0       3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80" name="Picture 27" descr=""/>
          <p:cNvPicPr/>
          <p:nvPr/>
        </p:nvPicPr>
        <p:blipFill>
          <a:blip r:embed="rId2"/>
          <a:stretch/>
        </p:blipFill>
        <p:spPr>
          <a:xfrm>
            <a:off x="2627280" y="3068640"/>
            <a:ext cx="3855960" cy="25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Заголовок 1" descr=""/>
          <p:cNvPicPr/>
          <p:nvPr/>
        </p:nvPicPr>
        <p:blipFill>
          <a:blip r:embed="rId1"/>
          <a:stretch/>
        </p:blipFill>
        <p:spPr>
          <a:xfrm>
            <a:off x="1000080" y="285840"/>
            <a:ext cx="7783560" cy="57499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"/>
          <p:cNvPicPr/>
          <p:nvPr/>
        </p:nvPicPr>
        <p:blipFill>
          <a:blip r:embed="rId2"/>
          <a:stretch/>
        </p:blipFill>
        <p:spPr>
          <a:xfrm>
            <a:off x="1571760" y="357120"/>
            <a:ext cx="842760" cy="10717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"/>
          <p:cNvPicPr/>
          <p:nvPr/>
        </p:nvPicPr>
        <p:blipFill>
          <a:blip r:embed="rId3"/>
          <a:stretch/>
        </p:blipFill>
        <p:spPr>
          <a:xfrm>
            <a:off x="3500280" y="5429160"/>
            <a:ext cx="2156040" cy="11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Text Box 2"/>
          <p:cNvGrpSpPr/>
          <p:nvPr/>
        </p:nvGrpSpPr>
        <p:grpSpPr>
          <a:xfrm>
            <a:off x="6480" y="6480"/>
            <a:ext cx="9137520" cy="6156360"/>
            <a:chOff x="6480" y="6480"/>
            <a:chExt cx="9137520" cy="6156360"/>
          </a:xfrm>
        </p:grpSpPr>
        <p:pic>
          <p:nvPicPr>
            <p:cNvPr id="210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91375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то такое бюджет для граждан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TextBox 1"/>
          <p:cNvSpPr/>
          <p:nvPr/>
        </p:nvSpPr>
        <p:spPr>
          <a:xfrm>
            <a:off x="468360" y="1268280"/>
            <a:ext cx="806436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Бюджет для граждан – это упрощенная версия бюджетного документа, которая использует неформальный язык и доступные документы,  чтобы облегчить для граждан понимание бюджета. Он содержит информационно-аналитический материал, доступный для широкого круга подготовленных пользовател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4617b"/>
                </a:solidFill>
                <a:latin typeface="Arial"/>
              </a:rPr>
              <a:t>Бюджет муниципального образования «Почепский сельсовет» на 2022 год и на плановый период 20</a:t>
            </a:r>
            <a:r>
              <a:rPr b="1" lang="en-US" sz="1400" spc="-1" strike="noStrike">
                <a:solidFill>
                  <a:srgbClr val="04617b"/>
                </a:solidFill>
                <a:latin typeface="Arial"/>
              </a:rPr>
              <a:t>2</a:t>
            </a:r>
            <a:r>
              <a:rPr b="1" lang="ru-RU" sz="1400" spc="-1" strike="noStrike">
                <a:solidFill>
                  <a:srgbClr val="04617b"/>
                </a:solidFill>
                <a:latin typeface="Arial"/>
              </a:rPr>
              <a:t>3 и 2024 годов утверждён в соответствии с действующим законодательством. Проект бюджета рассматривается и обсуждается на публичных слушаниях среди населения. Подлежит опубликованию в газете «Дмитриевский вестник» и на сайте Администрации Почепского сельсовета. В течении года  производится уточнение бюджета муниципального образования «Почепский сельсовет»</a:t>
            </a:r>
            <a:r>
              <a:rPr b="1" lang="ru-RU" sz="1800" spc="-1" strike="noStrike">
                <a:solidFill>
                  <a:srgbClr val="04617b"/>
                </a:solidFill>
                <a:latin typeface="Arial"/>
              </a:rPr>
              <a:t>. 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Рисунок 21" descr="B:\мои док\разное\фото\IMG_1666.JPG"/>
          <p:cNvPicPr/>
          <p:nvPr/>
        </p:nvPicPr>
        <p:blipFill>
          <a:blip r:embed="rId2"/>
          <a:stretch/>
        </p:blipFill>
        <p:spPr>
          <a:xfrm>
            <a:off x="2914560" y="2567160"/>
            <a:ext cx="3205080" cy="179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Text Box 2"/>
          <p:cNvGrpSpPr/>
          <p:nvPr/>
        </p:nvGrpSpPr>
        <p:grpSpPr>
          <a:xfrm>
            <a:off x="6480" y="6480"/>
            <a:ext cx="9137520" cy="6156360"/>
            <a:chOff x="6480" y="6480"/>
            <a:chExt cx="9137520" cy="6156360"/>
          </a:xfrm>
        </p:grpSpPr>
        <p:pic>
          <p:nvPicPr>
            <p:cNvPr id="222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91375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404280"/>
            <a:ext cx="737244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3495c"/>
                </a:solidFill>
                <a:latin typeface="Calibri"/>
              </a:rPr>
              <a:t>Что такое бюджет</a:t>
            </a: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03495c"/>
                </a:solidFill>
                <a:latin typeface="Arial"/>
              </a:rPr>
              <a:t>Бюджет –это форма образования и расходования денежных средств, предназначенных для решения задач и функций государства и местного самоуправления.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1" name="Picture 12" descr=""/>
          <p:cNvPicPr/>
          <p:nvPr/>
        </p:nvPicPr>
        <p:blipFill>
          <a:blip r:embed="rId2"/>
          <a:stretch/>
        </p:blipFill>
        <p:spPr>
          <a:xfrm>
            <a:off x="500040" y="714240"/>
            <a:ext cx="158112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Text Box 2"/>
          <p:cNvGrpSpPr/>
          <p:nvPr/>
        </p:nvGrpSpPr>
        <p:grpSpPr>
          <a:xfrm>
            <a:off x="6480" y="6480"/>
            <a:ext cx="9137520" cy="6156360"/>
            <a:chOff x="6480" y="6480"/>
            <a:chExt cx="9137520" cy="6156360"/>
          </a:xfrm>
        </p:grpSpPr>
        <p:pic>
          <p:nvPicPr>
            <p:cNvPr id="233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91375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5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404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юджет муниципального образования «Почепский сельсовет» составлен и утвержден сроком на один год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2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1047600" y="2097000"/>
            <a:ext cx="7480440" cy="78588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ая соединительная линия 5"/>
          <p:cNvSpPr/>
          <p:nvPr/>
        </p:nvSpPr>
        <p:spPr>
          <a:xfrm>
            <a:off x="4572000" y="2637000"/>
            <a:ext cx="0" cy="64764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ая соединительная линия 7"/>
          <p:cNvSpPr/>
          <p:nvPr/>
        </p:nvSpPr>
        <p:spPr>
          <a:xfrm>
            <a:off x="1332000" y="3284640"/>
            <a:ext cx="6480000" cy="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5" name="Прямая со стрелкой 10"/>
          <p:cNvCxnSpPr/>
          <p:nvPr/>
        </p:nvCxnSpPr>
        <p:spPr>
          <a:xfrm>
            <a:off x="13442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46" name="Прямая со стрелкой 12"/>
          <p:cNvCxnSpPr/>
          <p:nvPr/>
        </p:nvCxnSpPr>
        <p:spPr>
          <a:xfrm>
            <a:off x="781164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247" name="Скругленный прямоугольник 13"/>
          <p:cNvSpPr/>
          <p:nvPr/>
        </p:nvSpPr>
        <p:spPr>
          <a:xfrm>
            <a:off x="444600" y="3867120"/>
            <a:ext cx="1800000" cy="187164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60">
                <a:moveTo>
                  <a:pt x="3600" y="0"/>
                </a:moveTo>
                <a:arcTo wR="3600" hR="3600" stAng="16200000" swAng="-5400000"/>
                <a:lnTo>
                  <a:pt x="0" y="18860"/>
                </a:lnTo>
                <a:arcTo wR="3600" hR="3600" stAng="10800000" swAng="-5400000"/>
                <a:lnTo>
                  <a:pt x="18000" y="224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Бюджетном послании Президен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Российск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Федер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Скругленный прямоугольник 23"/>
          <p:cNvSpPr/>
          <p:nvPr/>
        </p:nvSpPr>
        <p:spPr>
          <a:xfrm>
            <a:off x="2664000" y="3876840"/>
            <a:ext cx="1800000" cy="1873080"/>
          </a:xfrm>
          <a:custGeom>
            <a:avLst/>
            <a:gdLst>
              <a:gd name="textAreaLeft" fmla="*/ 93600 w 1800000"/>
              <a:gd name="textAreaRight" fmla="*/ 1706400 w 1800000"/>
              <a:gd name="textAreaTop" fmla="*/ 93600 h 1873080"/>
              <a:gd name="textAreaBottom" fmla="*/ 1779480 h 1873080"/>
            </a:gdLst>
            <a:ahLst/>
            <a:rect l="textAreaLeft" t="textAreaTop" r="textAreaRight" b="textAreaBottom"/>
            <a:pathLst>
              <a:path w="21600" h="22477">
                <a:moveTo>
                  <a:pt x="3842" y="0"/>
                </a:moveTo>
                <a:arcTo wR="3842" hR="3842" stAng="16200000" swAng="-5400000"/>
                <a:lnTo>
                  <a:pt x="0" y="18635"/>
                </a:lnTo>
                <a:arcTo wR="3842" hR="3842" stAng="10800000" swAng="-5400000"/>
                <a:lnTo>
                  <a:pt x="17758" y="22477"/>
                </a:lnTo>
                <a:arcTo wR="3842" hR="3842" stAng="5400000" swAng="-5400000"/>
                <a:lnTo>
                  <a:pt x="21600" y="3842"/>
                </a:lnTo>
                <a:arcTo wR="3842" hR="3842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рогноз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социально- экономическо</a:t>
            </a: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го развит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чепс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Скругленный прямоугольник 24"/>
          <p:cNvSpPr/>
          <p:nvPr/>
        </p:nvSpPr>
        <p:spPr>
          <a:xfrm>
            <a:off x="475128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Основных направлениях бюджетной и налоговой политики Почепс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Скругленный прямоугольник 31"/>
          <p:cNvSpPr/>
          <p:nvPr/>
        </p:nvSpPr>
        <p:spPr>
          <a:xfrm>
            <a:off x="691200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Муниципаль</a:t>
            </a: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ных программах Почепс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1" name="Прямая со стрелкой 32"/>
          <p:cNvCxnSpPr/>
          <p:nvPr/>
        </p:nvCxnSpPr>
        <p:spPr>
          <a:xfrm>
            <a:off x="35636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52" name="Прямая со стрелкой 33"/>
          <p:cNvCxnSpPr/>
          <p:nvPr/>
        </p:nvCxnSpPr>
        <p:spPr>
          <a:xfrm>
            <a:off x="565128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pic>
        <p:nvPicPr>
          <p:cNvPr id="253" name="Picture 23" descr=""/>
          <p:cNvPicPr/>
          <p:nvPr/>
        </p:nvPicPr>
        <p:blipFill>
          <a:blip r:embed="rId3"/>
          <a:stretch/>
        </p:blipFill>
        <p:spPr>
          <a:xfrm>
            <a:off x="357120" y="785880"/>
            <a:ext cx="1011240" cy="1285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3" descr=""/>
          <p:cNvPicPr/>
          <p:nvPr/>
        </p:nvPicPr>
        <p:blipFill>
          <a:blip r:embed="rId4"/>
          <a:stretch/>
        </p:blipFill>
        <p:spPr>
          <a:xfrm>
            <a:off x="357120" y="785880"/>
            <a:ext cx="101124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Text Box 2"/>
          <p:cNvGrpSpPr/>
          <p:nvPr/>
        </p:nvGrpSpPr>
        <p:grpSpPr>
          <a:xfrm>
            <a:off x="0" y="0"/>
            <a:ext cx="9137520" cy="6156360"/>
            <a:chOff x="0" y="0"/>
            <a:chExt cx="9137520" cy="6156360"/>
          </a:xfrm>
        </p:grpSpPr>
        <p:pic>
          <p:nvPicPr>
            <p:cNvPr id="256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375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8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16080"/>
            <a:ext cx="822960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сновные характеристики бюджета</a:t>
            </a:r>
            <a:br>
              <a:rPr sz="3600"/>
            </a:br>
            <a:br>
              <a:rPr sz="36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ходы бюджета- поступающие в бюджет денежные средства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сходы бюджета- выплачиваемые из бюджета денежные средства </a:t>
            </a:r>
            <a:br>
              <a:rPr sz="1400"/>
            </a:br>
            <a:br>
              <a:rPr sz="14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ХОДЫ-РАСХОДЫ=ДЕФИЦИТ (ПРОФИЦИТ)</a:t>
            </a:r>
            <a:br>
              <a:rPr sz="1800"/>
            </a:br>
            <a:br>
              <a:rPr sz="18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фицит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вышение расходов над доходами (изыскиваются источники покрытия дефицита бюджета –использование остатков, сложившихся на начало финансового года, привлечение банковских и бюджетных кредитов)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фици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ревышение доходов над расходами  (принимается решение об использовании доходов – накапливать резервы, остатки, погашать долг)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5" name="Picture 13" descr=""/>
          <p:cNvPicPr/>
          <p:nvPr/>
        </p:nvPicPr>
        <p:blipFill>
          <a:blip r:embed="rId2"/>
          <a:stretch/>
        </p:blipFill>
        <p:spPr>
          <a:xfrm>
            <a:off x="285840" y="142920"/>
            <a:ext cx="1011240" cy="1285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" descr="j0186002"/>
          <p:cNvPicPr/>
          <p:nvPr/>
        </p:nvPicPr>
        <p:blipFill>
          <a:blip r:embed="rId3"/>
          <a:stretch/>
        </p:blipFill>
        <p:spPr>
          <a:xfrm>
            <a:off x="7072200" y="2000160"/>
            <a:ext cx="1952640" cy="20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Text Box 2"/>
          <p:cNvGrpSpPr/>
          <p:nvPr/>
        </p:nvGrpSpPr>
        <p:grpSpPr>
          <a:xfrm>
            <a:off x="6480" y="0"/>
            <a:ext cx="9137520" cy="6156360"/>
            <a:chOff x="6480" y="0"/>
            <a:chExt cx="9137520" cy="6156360"/>
          </a:xfrm>
        </p:grpSpPr>
        <p:pic>
          <p:nvPicPr>
            <p:cNvPr id="268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0"/>
              <a:ext cx="91375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648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0" y="657216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сновные характеристики бюджета муниципального образования      «Почепский сельсовет» на 2022 год  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395280" y="1341360"/>
          <a:ext cx="8280360" cy="4319640"/>
        </p:xfrm>
        <a:graphic>
          <a:graphicData uri="http://schemas.openxmlformats.org/drawingml/2006/table">
            <a:tbl>
              <a:tblPr/>
              <a:tblGrid>
                <a:gridCol w="4141800"/>
                <a:gridCol w="4138560"/>
              </a:tblGrid>
              <a:tr h="1192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2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42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2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41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2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42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(-)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ицит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78" name="Picture 29" descr=""/>
          <p:cNvPicPr/>
          <p:nvPr/>
        </p:nvPicPr>
        <p:blipFill>
          <a:blip r:embed="rId2"/>
          <a:stretch/>
        </p:blipFill>
        <p:spPr>
          <a:xfrm>
            <a:off x="3000240" y="2571840"/>
            <a:ext cx="3097440" cy="23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Text Box 2"/>
          <p:cNvGrpSpPr/>
          <p:nvPr/>
        </p:nvGrpSpPr>
        <p:grpSpPr>
          <a:xfrm>
            <a:off x="6480" y="0"/>
            <a:ext cx="9137520" cy="6156360"/>
            <a:chOff x="6480" y="0"/>
            <a:chExt cx="9137520" cy="6156360"/>
          </a:xfrm>
        </p:grpSpPr>
        <p:pic>
          <p:nvPicPr>
            <p:cNvPr id="280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0"/>
              <a:ext cx="91375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648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0" y="657216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сновные характеристики бюджета муниципального образования      «Почепский сельсовет» на 2023 и 2024 годы  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95280" y="1341360"/>
          <a:ext cx="8280360" cy="4319640"/>
        </p:xfrm>
        <a:graphic>
          <a:graphicData uri="http://schemas.openxmlformats.org/drawingml/2006/table">
            <a:tbl>
              <a:tblPr/>
              <a:tblGrid>
                <a:gridCol w="4141800"/>
                <a:gridCol w="4138560"/>
              </a:tblGrid>
              <a:tr h="1192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3-2024 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42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24,2          860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41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24,2          860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42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(-)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ицит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            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90" name="Picture 29" descr=""/>
          <p:cNvPicPr/>
          <p:nvPr/>
        </p:nvPicPr>
        <p:blipFill>
          <a:blip r:embed="rId2"/>
          <a:stretch/>
        </p:blipFill>
        <p:spPr>
          <a:xfrm>
            <a:off x="2071800" y="2571840"/>
            <a:ext cx="3097080" cy="23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Text Box 2"/>
          <p:cNvGrpSpPr/>
          <p:nvPr/>
        </p:nvGrpSpPr>
        <p:grpSpPr>
          <a:xfrm>
            <a:off x="6480" y="6480"/>
            <a:ext cx="9137520" cy="6156360"/>
            <a:chOff x="6480" y="6480"/>
            <a:chExt cx="9137520" cy="6156360"/>
          </a:xfrm>
        </p:grpSpPr>
        <p:pic>
          <p:nvPicPr>
            <p:cNvPr id="292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91375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ходы бюджета муниципального образования «Почепский сельсовет»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Равнобедренный треугольник 2"/>
          <p:cNvSpPr/>
          <p:nvPr/>
        </p:nvSpPr>
        <p:spPr>
          <a:xfrm>
            <a:off x="3087720" y="836640"/>
            <a:ext cx="2879640" cy="23050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ЮДЖЕ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Овал 13"/>
          <p:cNvSpPr/>
          <p:nvPr/>
        </p:nvSpPr>
        <p:spPr>
          <a:xfrm>
            <a:off x="279360" y="117324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от уплаты налогов, установленных Налоговым кодексо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Российской Федерации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пример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доходы физических лиц;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земельный нало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имущество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Физических лиц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3" name="Прямая со стрелкой 5"/>
          <p:cNvCxnSpPr>
            <a:stCxn id="302" idx="6"/>
            <a:endCxn id="301" idx="1"/>
          </p:cNvCxnSpPr>
          <p:nvPr/>
        </p:nvCxnSpPr>
        <p:spPr>
          <a:xfrm flipV="1">
            <a:off x="3087720" y="1988640"/>
            <a:ext cx="721440" cy="50400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304" name="Прямая со стрелкой 7"/>
          <p:cNvCxnSpPr>
            <a:stCxn id="305" idx="2"/>
            <a:endCxn id="301" idx="5"/>
          </p:cNvCxnSpPr>
          <p:nvPr/>
        </p:nvCxnSpPr>
        <p:spPr>
          <a:xfrm flipH="1" flipV="1">
            <a:off x="5248080" y="1988280"/>
            <a:ext cx="761040" cy="4057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306" name="Прямая со стрелкой 12"/>
          <p:cNvCxnSpPr>
            <a:endCxn id="301" idx="3"/>
          </p:cNvCxnSpPr>
          <p:nvPr/>
        </p:nvCxnSpPr>
        <p:spPr>
          <a:xfrm flipH="1" flipV="1">
            <a:off x="4527000" y="3141000"/>
            <a:ext cx="6840" cy="3229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307" name="TextBox 15"/>
          <p:cNvSpPr/>
          <p:nvPr/>
        </p:nvSpPr>
        <p:spPr>
          <a:xfrm>
            <a:off x="5003640" y="32796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Овал 26"/>
          <p:cNvSpPr/>
          <p:nvPr/>
        </p:nvSpPr>
        <p:spPr>
          <a:xfrm>
            <a:off x="6008760" y="107460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ЕЗВОЗМЕЗДНЫЕ ПОСТУПЛ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в бюджет от других бюджетов в виде дотаций, субсидий, субвенций и иных  межбюджетных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трансферт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Овал 31"/>
          <p:cNvSpPr/>
          <p:nvPr/>
        </p:nvSpPr>
        <p:spPr>
          <a:xfrm>
            <a:off x="3129120" y="3463920"/>
            <a:ext cx="280800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Е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доходы от использования муниципального  имущества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- другие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Picture 20" descr=""/>
          <p:cNvPicPr/>
          <p:nvPr/>
        </p:nvPicPr>
        <p:blipFill>
          <a:blip r:embed="rId2"/>
          <a:stretch/>
        </p:blipFill>
        <p:spPr>
          <a:xfrm>
            <a:off x="642960" y="3857760"/>
            <a:ext cx="1681200" cy="15444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1" descr=""/>
          <p:cNvPicPr/>
          <p:nvPr/>
        </p:nvPicPr>
        <p:blipFill>
          <a:blip r:embed="rId3"/>
          <a:stretch/>
        </p:blipFill>
        <p:spPr>
          <a:xfrm>
            <a:off x="6804000" y="378936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Text Box 2"/>
          <p:cNvGrpSpPr/>
          <p:nvPr/>
        </p:nvGrpSpPr>
        <p:grpSpPr>
          <a:xfrm>
            <a:off x="6480" y="0"/>
            <a:ext cx="9137520" cy="6151680"/>
            <a:chOff x="6480" y="0"/>
            <a:chExt cx="9137520" cy="6151680"/>
          </a:xfrm>
        </p:grpSpPr>
        <p:pic>
          <p:nvPicPr>
            <p:cNvPr id="312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1080"/>
              <a:ext cx="9137520" cy="614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6480" y="0"/>
              <a:ext cx="9137520" cy="61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руктура расходов бюджет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муниципального образования «Почепский сельсовет»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по разделам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юджетной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лассификации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755640" y="836640"/>
          <a:ext cx="7848720" cy="3546360"/>
        </p:xfrm>
        <a:graphic>
          <a:graphicData uri="http://schemas.openxmlformats.org/drawingml/2006/table">
            <a:tbl>
              <a:tblPr/>
              <a:tblGrid>
                <a:gridCol w="1785960"/>
                <a:gridCol w="4160880"/>
                <a:gridCol w="1901880"/>
              </a:tblGrid>
              <a:tr h="523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2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77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2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 вопро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9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4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2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, кинематограф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9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7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ческая культура и спор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322" name="Picture 58" descr=""/>
          <p:cNvPicPr/>
          <p:nvPr/>
        </p:nvPicPr>
        <p:blipFill>
          <a:blip r:embed="rId2"/>
          <a:stretch/>
        </p:blipFill>
        <p:spPr>
          <a:xfrm>
            <a:off x="1857240" y="435780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9" descr="C:\Documents and Settings\XxX\Рабочий стол\андрей(2)\БЮДЖЕТ ДЛЯ ГРАЖДАН муниципального образования «Кармановский сельсовет» Железногорского района Курской области на 2015 год и на плановый период 2016 и 2017 годов_files\img1.jpg"/>
          <p:cNvPicPr/>
          <p:nvPr/>
        </p:nvPicPr>
        <p:blipFill>
          <a:blip r:embed="rId3"/>
          <a:stretch/>
        </p:blipFill>
        <p:spPr>
          <a:xfrm>
            <a:off x="5715000" y="4429080"/>
            <a:ext cx="1920960" cy="1440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8" descr=""/>
          <p:cNvPicPr/>
          <p:nvPr/>
        </p:nvPicPr>
        <p:blipFill>
          <a:blip r:embed="rId4"/>
          <a:stretch/>
        </p:blipFill>
        <p:spPr>
          <a:xfrm>
            <a:off x="1857240" y="435780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8" descr=""/>
          <p:cNvPicPr/>
          <p:nvPr/>
        </p:nvPicPr>
        <p:blipFill>
          <a:blip r:embed="rId5"/>
          <a:stretch/>
        </p:blipFill>
        <p:spPr>
          <a:xfrm>
            <a:off x="1857240" y="4357800"/>
            <a:ext cx="1905120" cy="142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30</dc:creator>
  <dc:description/>
  <dc:language>en-US</dc:language>
  <cp:lastModifiedBy>Админ</cp:lastModifiedBy>
  <dcterms:modified xsi:type="dcterms:W3CDTF">2021-12-10T06:39:11Z</dcterms:modified>
  <cp:revision>219</cp:revision>
  <dc:subject/>
  <dc:title>Презентация PowerPoint</dc:title>
</cp:coreProperties>
</file>