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B2D-62F7-42DB-A667-547FA062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3FF-4A1C-4052-941E-E7EA7F3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815-9BFD-44C1-BAC1-2D11B641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3ED-8F6C-495B-98E8-2D4BD020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DF5-6B50-42AB-AB0D-24303BA9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A68D-9BFD-4DCE-9AB4-0AAFFE1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9D6-DE48-4B0F-8E79-CF5C5AE7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D474-B626-4A06-8FDD-3C2A405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E64E-3197-4A82-9376-71715B8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160-E77A-455D-AC61-46BD942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4FF8-1A51-412B-9817-6A2061DB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61B-4F69-4314-8A75-6771FE98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FBD-BF10-4BA5-B54A-8C392A8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9C86-2F69-4B46-BA4E-671EA95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5C6-E793-4BAA-B3F5-14F23A52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F0E-19E1-425B-B9AB-2438225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A80A-E174-4DD6-BB00-1714ACB7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C7DA-1AE6-4CB8-8225-D7259FF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10F9-E13C-4C5A-B64B-8AEFF3B7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C8F8-4D67-4B64-8B58-32FA4E4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8AB2-9C4F-44A1-8209-C564FD1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4A70-C538-4F28-BAB9-481CE404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12D-1350-4259-9F40-3465CC8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DEF7-1876-4C0E-B435-6E691F4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D406-9A4F-4AC5-8E4B-3967E4F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8833-844C-4FE9-8D29-C7DA967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FB2C-7F3D-4C84-A216-F239599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B6D3-3E08-434D-820B-E4D7639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CC6E-5C8B-4F87-9058-0A546270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7809-E49C-4779-A861-4113CBF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52AD-AE21-4356-B273-0214AE13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E977-2F4E-49A6-B77F-4F4F549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329A-83A1-49E7-83B8-94A45FE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09D-60BA-45BA-AAED-918D916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0AA5-C42C-496D-84DE-B90AA33A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CDCD-63E1-4839-A2BF-2514644B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8DE0-B81C-4046-8624-BA944C73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668B-88F4-4ECF-A35A-C01BFBA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A66F-340F-42AA-B53D-4087C8B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5916-ADF4-4413-A321-347471A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4446-103E-4727-A6AA-5B3BF12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9CC73-2C07-45AC-8148-F02963E6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8694-248F-420F-B1C6-CE08233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F84-083C-4076-8402-375F1455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DF1-9B4E-4055-BA02-78FBD8DD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CEB-A2EC-425B-B953-6975AA5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8B2-F5DA-4873-AF5E-C09928F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DBF-787A-4728-9693-5853799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FCC-AD14-4DD1-BC6F-21DFFBDB826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6A7-B17F-4A39-AC76-83175709C22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4D87-5271-4483-976D-AEF7AE701C8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B15-C29F-450C-BEC3-DAF3E54AD39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на 2023 год и на плановый период 2024 и 2025 годов»</a:t>
            </a:r>
            <a:r>
              <a:rPr b="1" lang="en-US" sz="16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№    от 15 декабря 2022 года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8880" y="139680"/>
            <a:ext cx="1079640" cy="1255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24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-2025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   88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1,9              338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                     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2,1                  45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         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,0                        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                             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3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3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4-2025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200,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4-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,0         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4-2025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,1        15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4-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            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4-2025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,7        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3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83560" cy="574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3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4 и 2025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14560" y="2567160"/>
            <a:ext cx="3205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7600" y="2097000"/>
            <a:ext cx="748044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3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4 и 2025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-2025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887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 887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Админ</cp:lastModifiedBy>
  <dcterms:modified xsi:type="dcterms:W3CDTF">2022-12-14T12:04:42Z</dcterms:modified>
  <cp:revision>221</cp:revision>
  <dc:subject/>
  <dc:title>Презентация PowerPoint</dc:title>
</cp:coreProperties>
</file>