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CD7C-D4DC-426A-9CBB-8DA85341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BCC-612B-471E-91C9-AAA9E281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9C9-7933-4487-9656-35A98E92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E6C-1EAD-4E20-9AD1-73513C57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55AB-FE30-4F9C-B446-C58B2CCD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86F9-67DD-42DE-BCE9-69E28A2A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D257-F06C-4B53-A809-C54FA711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A4D5-3250-4AEF-8E49-EBA0CF6C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4092-164C-42B2-B5F8-4BCA82B6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90B0-0B35-48A2-A7F7-2192DF5A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C158-2BBD-44CE-A0D8-B341E2F5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EE9-91E3-46AF-96EA-F3137B9B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1E6B-2FCF-4DC3-A163-2FF5F2CD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2E49-3A65-4ED4-9B0D-8D829518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83A0-85CE-42E1-9032-72B1EB87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BAD9-1F9A-44E9-B1DF-D5F51899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82AE-0CF1-4BB4-ADE2-EF9851DA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CA75D-00C9-4EF5-BB21-E6EDA203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08FD1-FA00-4075-A7C2-BBC3D25E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B9B41-5178-4C39-8DF0-CC79B997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B6FC8-68E0-465A-A67F-B84C75A1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05345-8EA0-4279-9B91-0EDB60E6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A82-6DB5-4E1C-9A4D-547FBA38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070C3-2854-4A01-BB7C-60998B02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9FC19-4FED-4841-8DF6-535F4515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35F4A-70DF-41B4-A45D-23F2C522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6DBCE-4FBE-4BEA-A0A5-12B47FD4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C5873-E6A7-4778-B85B-EAC1369E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42DBE-17F2-4598-91FA-892A8524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3275E-DF13-45AA-A9F2-FA3C0BC5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74290-E55B-4ADD-871E-DC08EB73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B22FC-66DD-47C8-A402-DB823FA7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57EA0-7B6C-4D15-91CF-A4E11B61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C03-78B8-43B5-926A-542D40F1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EAC5B-C685-4F41-A1DB-DC7C591E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C017C-F3CC-4642-9EE8-F734103E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DF480-A01F-4A4B-9A14-577009EC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A43D9-651A-4AEF-AAF5-3605D117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486B3-A59C-4AE2-BB20-0D78940C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2ACC3-229D-4B72-841B-4BF80303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A89F8-BC71-4F81-8B25-AC7CDC27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6E714-0322-438E-92A7-65869785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5CE6D-F2AF-4CDD-9F9D-BE43DF87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B182-0DC3-47BF-AA68-C0594A39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A13-CEF1-4DBA-835A-061EFABE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4D74-9369-4D40-AD53-FA530C29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ABB-29EE-4368-B222-D21BBE85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6A45-CA25-4562-B7A8-B8F40A43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7430-061D-4927-8428-84CAC2E9E668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1A79-0C41-4CA6-9D98-6E68B2C40B9C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41A7-4C06-4A82-A23B-25594B606201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F0BD-DE1E-49D9-AAE5-CC5FA0CF3C91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Бюджет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для граждан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1600" spc="-1" strike="noStrike">
                <a:solidFill>
                  <a:srgbClr val="04617b"/>
                </a:solidFill>
                <a:latin typeface="Arial"/>
              </a:rPr>
              <a:t>к  решению Собрания депутатов Почепского сельсовета  «О бюджете муниципального образования «Почепский сельсовет» Дмитриевского района Курской области на 2023 год и на плановый период 2024 и 2025 годов»</a:t>
            </a:r>
            <a:r>
              <a:rPr b="1" lang="en-US" sz="16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4617b"/>
                </a:solidFill>
                <a:latin typeface="Arial"/>
              </a:rPr>
              <a:t>№  102  от 15 декабря 2022 года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1" descr="http://cs403018.vk.me/v403018988/4228/4hyM1kjbv5M.jpg"/>
          <p:cNvPicPr/>
          <p:nvPr/>
        </p:nvPicPr>
        <p:blipFill>
          <a:blip r:embed="rId2"/>
          <a:stretch/>
        </p:blipFill>
        <p:spPr>
          <a:xfrm>
            <a:off x="3998880" y="139680"/>
            <a:ext cx="1079640" cy="1255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19" descr="C:\Documents and Settings\XxX\Рабочий стол\Почепской сельсовет Баннер (4).jpg"/>
          <p:cNvPicPr/>
          <p:nvPr/>
        </p:nvPicPr>
        <p:blipFill>
          <a:blip r:embed="rId3"/>
          <a:stretch/>
        </p:blipFill>
        <p:spPr>
          <a:xfrm>
            <a:off x="3357720" y="142884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C:\Documents and Settings\XxX\Рабочий стол\Почепской сельсовет Баннер (4).jpg"/>
          <p:cNvPicPr/>
          <p:nvPr/>
        </p:nvPicPr>
        <p:blipFill>
          <a:blip r:embed="rId4"/>
          <a:stretch/>
        </p:blipFill>
        <p:spPr>
          <a:xfrm>
            <a:off x="3357720" y="1428840"/>
            <a:ext cx="4033800" cy="24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Text Box 2"/>
          <p:cNvGrpSpPr/>
          <p:nvPr/>
        </p:nvGrpSpPr>
        <p:grpSpPr>
          <a:xfrm>
            <a:off x="6480" y="0"/>
            <a:ext cx="9137520" cy="6151680"/>
            <a:chOff x="6480" y="0"/>
            <a:chExt cx="9137520" cy="6151680"/>
          </a:xfrm>
        </p:grpSpPr>
        <p:pic>
          <p:nvPicPr>
            <p:cNvPr id="327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1080"/>
              <a:ext cx="9137520" cy="614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6480" y="0"/>
              <a:ext cx="9137520" cy="61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9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и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52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-2025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96,3            887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61,9              338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,3                     12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                         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32,1                  458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2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                           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0                      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8,0                        5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                             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37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Text Box 2"/>
          <p:cNvGrpSpPr/>
          <p:nvPr/>
        </p:nvGrpSpPr>
        <p:grpSpPr>
          <a:xfrm>
            <a:off x="6480" y="6480"/>
            <a:ext cx="9131040" cy="6156360"/>
            <a:chOff x="6480" y="6480"/>
            <a:chExt cx="9131040" cy="6156360"/>
          </a:xfrm>
        </p:grpSpPr>
        <p:pic>
          <p:nvPicPr>
            <p:cNvPr id="34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104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23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в муниципальном образовании «Почепский сельсовет» на 2023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ий сельсовет» на 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22 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Text Box 2"/>
          <p:cNvGrpSpPr/>
          <p:nvPr/>
        </p:nvGrpSpPr>
        <p:grpSpPr>
          <a:xfrm>
            <a:off x="6480" y="6480"/>
            <a:ext cx="9131040" cy="6156360"/>
            <a:chOff x="6480" y="6480"/>
            <a:chExt cx="9131040" cy="6156360"/>
          </a:xfrm>
        </p:grpSpPr>
        <p:pic>
          <p:nvPicPr>
            <p:cNvPr id="35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104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-2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24-2025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0            200,0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24-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,0         5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граждан в муниципальном образовании «Почепский сельсовет» на  2024-2025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6,1        156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ий сельсовет» на 2024-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0            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24-2025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1,7        30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Text Box 2"/>
          <p:cNvGrpSpPr/>
          <p:nvPr/>
        </p:nvGrpSpPr>
        <p:grpSpPr>
          <a:xfrm>
            <a:off x="12600" y="0"/>
            <a:ext cx="9131400" cy="6156360"/>
            <a:chOff x="12600" y="0"/>
            <a:chExt cx="9131400" cy="6156360"/>
          </a:xfrm>
        </p:grpSpPr>
        <p:pic>
          <p:nvPicPr>
            <p:cNvPr id="360" name="Text Box 2" descr=""/>
            <p:cNvPicPr/>
            <p:nvPr/>
          </p:nvPicPr>
          <p:blipFill>
            <a:blip r:embed="rId1"/>
            <a:stretch/>
          </p:blipFill>
          <p:spPr>
            <a:xfrm>
              <a:off x="12600" y="0"/>
              <a:ext cx="913140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85840" y="466560"/>
          <a:ext cx="8318520" cy="208764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23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9" name="Picture 29" descr="http://www.kdmt46.ru/rnewsfiles/10/36167jenshhiny.jpg"/>
          <p:cNvPicPr/>
          <p:nvPr/>
        </p:nvPicPr>
        <p:blipFill>
          <a:blip r:embed="rId2"/>
          <a:stretch/>
        </p:blipFill>
        <p:spPr>
          <a:xfrm>
            <a:off x="2195640" y="28526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Text Box 2"/>
          <p:cNvGrpSpPr/>
          <p:nvPr/>
        </p:nvGrpSpPr>
        <p:grpSpPr>
          <a:xfrm>
            <a:off x="12600" y="0"/>
            <a:ext cx="9131400" cy="6156360"/>
            <a:chOff x="12600" y="0"/>
            <a:chExt cx="9131400" cy="6156360"/>
          </a:xfrm>
        </p:grpSpPr>
        <p:pic>
          <p:nvPicPr>
            <p:cNvPr id="371" name="Text Box 2" descr=""/>
            <p:cNvPicPr/>
            <p:nvPr/>
          </p:nvPicPr>
          <p:blipFill>
            <a:blip r:embed="rId1"/>
            <a:stretch/>
          </p:blipFill>
          <p:spPr>
            <a:xfrm>
              <a:off x="12600" y="0"/>
              <a:ext cx="913140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85840" y="466560"/>
          <a:ext cx="8318520" cy="224496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88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-2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         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-2024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       3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0" name="Picture 27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385596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1000080" y="285840"/>
            <a:ext cx="7783560" cy="57499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1571760" y="357120"/>
            <a:ext cx="842760" cy="1071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3"/>
          <a:stretch/>
        </p:blipFill>
        <p:spPr>
          <a:xfrm>
            <a:off x="3500280" y="5429160"/>
            <a:ext cx="215604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1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468360" y="1268280"/>
            <a:ext cx="80643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Бюджет муниципального образования «Почепский сельсовет» на 2023 год и на плановый период 20</a:t>
            </a:r>
            <a:r>
              <a:rPr b="1" lang="en-US" sz="1400" spc="-1" strike="noStrike">
                <a:solidFill>
                  <a:srgbClr val="04617b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4 и 2025 годов утверждён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Почепского сельсовета. В течении года  производится уточнение бюджета муниципального образования «Почепский сельсовет»</a:t>
            </a: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2914560" y="2567160"/>
            <a:ext cx="3205080" cy="179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2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3495c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Бюджет –это форма образования и расходования денежных средств, предназначенных для реш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12" descr=""/>
          <p:cNvPicPr/>
          <p:nvPr/>
        </p:nvPicPr>
        <p:blipFill>
          <a:blip r:embed="rId2"/>
          <a:stretch/>
        </p:blipFill>
        <p:spPr>
          <a:xfrm>
            <a:off x="500040" y="714240"/>
            <a:ext cx="15811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33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 муниципального образования «Почепский сельсовет» составлен и утвержден сроком на один го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7600" y="2097000"/>
            <a:ext cx="7480440" cy="7858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5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46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47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ных программах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pic>
        <p:nvPicPr>
          <p:cNvPr id="253" name="Picture 23" descr=""/>
          <p:cNvPicPr/>
          <p:nvPr/>
        </p:nvPicPr>
        <p:blipFill>
          <a:blip r:embed="rId3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3" descr=""/>
          <p:cNvPicPr/>
          <p:nvPr/>
        </p:nvPicPr>
        <p:blipFill>
          <a:blip r:embed="rId4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Text Box 2"/>
          <p:cNvGrpSpPr/>
          <p:nvPr/>
        </p:nvGrpSpPr>
        <p:grpSpPr>
          <a:xfrm>
            <a:off x="0" y="0"/>
            <a:ext cx="9137520" cy="6156360"/>
            <a:chOff x="0" y="0"/>
            <a:chExt cx="9137520" cy="6156360"/>
          </a:xfrm>
        </p:grpSpPr>
        <p:pic>
          <p:nvPicPr>
            <p:cNvPr id="25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Picture 13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j0186002"/>
          <p:cNvPicPr/>
          <p:nvPr/>
        </p:nvPicPr>
        <p:blipFill>
          <a:blip r:embed="rId3"/>
          <a:stretch/>
        </p:blipFill>
        <p:spPr>
          <a:xfrm>
            <a:off x="7072200" y="2000160"/>
            <a:ext cx="1952640" cy="20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Text Box 2"/>
          <p:cNvGrpSpPr/>
          <p:nvPr/>
        </p:nvGrpSpPr>
        <p:grpSpPr>
          <a:xfrm>
            <a:off x="6480" y="0"/>
            <a:ext cx="9137520" cy="6156360"/>
            <a:chOff x="6480" y="0"/>
            <a:chExt cx="9137520" cy="6156360"/>
          </a:xfrm>
        </p:grpSpPr>
        <p:pic>
          <p:nvPicPr>
            <p:cNvPr id="268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ий сельсовет» на 2023 год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3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3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78" name="Picture 29" descr=""/>
          <p:cNvPicPr/>
          <p:nvPr/>
        </p:nvPicPr>
        <p:blipFill>
          <a:blip r:embed="rId2"/>
          <a:stretch/>
        </p:blipFill>
        <p:spPr>
          <a:xfrm>
            <a:off x="3000240" y="2571840"/>
            <a:ext cx="309744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Text Box 2"/>
          <p:cNvGrpSpPr/>
          <p:nvPr/>
        </p:nvGrpSpPr>
        <p:grpSpPr>
          <a:xfrm>
            <a:off x="6480" y="0"/>
            <a:ext cx="9137520" cy="6156360"/>
            <a:chOff x="6480" y="0"/>
            <a:chExt cx="9137520" cy="6156360"/>
          </a:xfrm>
        </p:grpSpPr>
        <p:pic>
          <p:nvPicPr>
            <p:cNvPr id="28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ий сельсовет» на 2024 и 2025 годы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-2025 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96,3         887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96,3          887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           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90" name="Picture 29" descr=""/>
          <p:cNvPicPr/>
          <p:nvPr/>
        </p:nvPicPr>
        <p:blipFill>
          <a:blip r:embed="rId2"/>
          <a:stretch/>
        </p:blipFill>
        <p:spPr>
          <a:xfrm>
            <a:off x="2071800" y="2571840"/>
            <a:ext cx="309708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9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ходы бюджета муниципального образования «Почепски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Физических ли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3" name="Прямая со стрелкой 5"/>
          <p:cNvCxnSpPr>
            <a:stCxn id="302" idx="6"/>
            <a:endCxn id="301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304" name="Прямая со стрелкой 7"/>
          <p:cNvCxnSpPr>
            <a:stCxn id="305" idx="2"/>
            <a:endCxn id="301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306" name="Прямая со стрелкой 12"/>
          <p:cNvCxnSpPr>
            <a:endCxn id="301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307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от других бюджетов в виде дотаций, субсидий, субвенций и иных  межбюджетных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трансферт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20" descr=""/>
          <p:cNvPicPr/>
          <p:nvPr/>
        </p:nvPicPr>
        <p:blipFill>
          <a:blip r:embed="rId2"/>
          <a:stretch/>
        </p:blipFill>
        <p:spPr>
          <a:xfrm>
            <a:off x="642960" y="3857760"/>
            <a:ext cx="1681200" cy="1544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"/>
          <p:cNvPicPr/>
          <p:nvPr/>
        </p:nvPicPr>
        <p:blipFill>
          <a:blip r:embed="rId3"/>
          <a:stretch/>
        </p:blipFill>
        <p:spPr>
          <a:xfrm>
            <a:off x="6804000" y="3789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6480" y="0"/>
            <a:ext cx="9137520" cy="6151680"/>
            <a:chOff x="6480" y="0"/>
            <a:chExt cx="9137520" cy="615168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1080"/>
              <a:ext cx="9137520" cy="614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0"/>
              <a:ext cx="9137520" cy="61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и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52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3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3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2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22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8" descr=""/>
          <p:cNvPicPr/>
          <p:nvPr/>
        </p:nvPicPr>
        <p:blipFill>
          <a:blip r:embed="rId4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8" descr=""/>
          <p:cNvPicPr/>
          <p:nvPr/>
        </p:nvPicPr>
        <p:blipFill>
          <a:blip r:embed="rId5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Админ</cp:lastModifiedBy>
  <dcterms:modified xsi:type="dcterms:W3CDTF">2022-12-14T12:10:26Z</dcterms:modified>
  <cp:revision>222</cp:revision>
  <dc:subject/>
  <dc:title>Презентация PowerPoint</dc:title>
</cp:coreProperties>
</file>