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031-C7B8-4D6D-AEF1-CC70FB1E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F4F-9FD8-46FD-9F1B-1C2763F8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38C-4B69-45D7-B288-463DD3CC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2F3-FA56-405D-BDF6-D1DEFC13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F141-9841-44C2-A59A-442085A5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9585-A457-4F65-9E41-634220CA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C66C-0C0B-4C35-8EEB-D40D318A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B2CC-5788-4C2A-8E92-78E39F03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2F8A-FF28-47FA-B1A3-D2920411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1480-D4EF-42AA-8B33-3093B771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02CD-5A31-4A6D-AA55-8F5580E4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31A-E02D-4FEE-8AE8-327C541B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0603-F7C0-4EFD-8211-702D0FA4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043B-1EBF-430F-AEBD-4694A7C6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1D9E-F5C8-4541-A980-A83E94D6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FBE5-344B-475B-B9A1-39A6B260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7979-1B2D-4ACE-B9D1-8F5F372E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56E3E-A6CA-4844-A888-3FFB48D3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47E41-3FF2-4191-BF52-C7135FB3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C4F64-2160-4FE9-8012-B1B6C693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BEF9C-415B-4336-8D5F-547F1759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DA00-9AF5-480D-A3F8-44E8179F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D2C-05DF-4B2D-AFA9-23547433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F784-C96E-4144-A1F6-61B692BC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4CA16-6782-4DE8-99B5-DFE63455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19349-F964-4F09-A73A-2AFA70B7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4517D-E6AB-4608-A98B-F1325A24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6149D-250A-4B56-B836-BD829403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F3FEC-E154-4CFD-9C8A-5F0D9870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EDA09-5B78-4DB2-9337-40960672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7B061-B382-470F-A418-F4AC0F18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35EDC-701D-464E-BE16-1CA3C3C4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23A3B-F5D0-4CDE-90EC-9EA2B2A5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055-1AEC-448C-8F40-2DBF37B1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40790-4FD0-4044-A436-E176D975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2F8A5-997E-4C05-9E3E-D3363602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19023-5EEC-449E-A7D0-F72FD45C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266C6-48F7-4AE9-AF69-7A627E33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94267-575D-4693-8420-8264054A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1296D-738B-4D77-AECB-0B39C6CE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1A88-ADF4-4A39-A575-414EE13D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271B7-4667-4458-8B24-498B2011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D439B-45FF-4D24-9B0A-BCBF5F17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CB0-305B-431B-A0E7-49758248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CDD-70D3-4E85-B0E1-211FBA9D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F70-DB9F-482A-9F2F-ECAC2AA5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83B-BB1A-4A63-9DF0-F9971001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D9D-61AF-412A-9EFF-E24914F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3689-A57D-4662-A1CA-E26467D2BBB4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445E-91D3-4C2A-9421-556AB1DAFF7A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5B2E-9640-4EB0-9C13-12AAE0B8A7F9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CA7E-C323-40AD-B218-7653908D4895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Бюджет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ля граждан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к  решению Собрания депутатов Почепского сельсовета  «О бюджете муниципального образования «Почепский сельсовет» Дмитриевского района Курской области на 2024 год и на плановый период 2025 и 2026 годов»</a:t>
            </a:r>
            <a:r>
              <a:rPr b="1" lang="en-US" sz="16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№    от 15 декабря 2023 года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1" descr="http://cs403018.vk.me/v403018988/4228/4hyM1kjbv5M.jpg"/>
          <p:cNvPicPr/>
          <p:nvPr/>
        </p:nvPicPr>
        <p:blipFill>
          <a:blip r:embed="rId2"/>
          <a:stretch/>
        </p:blipFill>
        <p:spPr>
          <a:xfrm>
            <a:off x="3998880" y="139680"/>
            <a:ext cx="1079640" cy="1255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19" descr="C:\Documents and Settings\XxX\Рабочий стол\Почепской сельсовет Баннер (4).jpg"/>
          <p:cNvPicPr/>
          <p:nvPr/>
        </p:nvPicPr>
        <p:blipFill>
          <a:blip r:embed="rId3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C:\Documents and Settings\XxX\Рабочий стол\Почепской сельсовет Баннер (4).jpg"/>
          <p:cNvPicPr/>
          <p:nvPr/>
        </p:nvPicPr>
        <p:blipFill>
          <a:blip r:embed="rId4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Text Box 2"/>
          <p:cNvGrpSpPr/>
          <p:nvPr/>
        </p:nvGrpSpPr>
        <p:grpSpPr>
          <a:xfrm>
            <a:off x="6480" y="0"/>
            <a:ext cx="9137520" cy="6151680"/>
            <a:chOff x="6480" y="0"/>
            <a:chExt cx="9137520" cy="6151680"/>
          </a:xfrm>
        </p:grpSpPr>
        <p:pic>
          <p:nvPicPr>
            <p:cNvPr id="327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1080"/>
              <a:ext cx="9137520" cy="614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480" y="0"/>
              <a:ext cx="9137520" cy="61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-2026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99,6           1029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1,8              293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,7                  16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                         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73,5               590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                           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                      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1,0                       52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                             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37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Text Box 2"/>
          <p:cNvGrpSpPr/>
          <p:nvPr/>
        </p:nvGrpSpPr>
        <p:grpSpPr>
          <a:xfrm>
            <a:off x="6480" y="6480"/>
            <a:ext cx="9131040" cy="6156360"/>
            <a:chOff x="6480" y="6480"/>
            <a:chExt cx="9131040" cy="6156360"/>
          </a:xfrm>
        </p:grpSpPr>
        <p:pic>
          <p:nvPicPr>
            <p:cNvPr id="34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104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4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в муниципальном образовании «Почепский сельсовет» на 2024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4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4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Text Box 2"/>
          <p:cNvGrpSpPr/>
          <p:nvPr/>
        </p:nvGrpSpPr>
        <p:grpSpPr>
          <a:xfrm>
            <a:off x="6480" y="6480"/>
            <a:ext cx="9131040" cy="6156360"/>
            <a:chOff x="6480" y="6480"/>
            <a:chExt cx="9131040" cy="6156360"/>
          </a:xfrm>
        </p:grpSpPr>
        <p:pic>
          <p:nvPicPr>
            <p:cNvPr id="35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104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20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5-2026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            200,0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5-202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,0         52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граждан в муниципальном образовании «Почепский сельсовет» на  2025-2026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73,5       590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5-202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            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5-2026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,3        38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Text Box 2"/>
          <p:cNvGrpSpPr/>
          <p:nvPr/>
        </p:nvGrpSpPr>
        <p:grpSpPr>
          <a:xfrm>
            <a:off x="12600" y="0"/>
            <a:ext cx="9131400" cy="6156360"/>
            <a:chOff x="12600" y="0"/>
            <a:chExt cx="9131400" cy="6156360"/>
          </a:xfrm>
        </p:grpSpPr>
        <p:pic>
          <p:nvPicPr>
            <p:cNvPr id="360" name="Text Box 2" descr=""/>
            <p:cNvPicPr/>
            <p:nvPr/>
          </p:nvPicPr>
          <p:blipFill>
            <a:blip r:embed="rId1"/>
            <a:stretch/>
          </p:blipFill>
          <p:spPr>
            <a:xfrm>
              <a:off x="12600" y="0"/>
              <a:ext cx="913140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85840" y="466560"/>
          <a:ext cx="8318520" cy="208764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23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9" name="Picture 29" descr="http://www.kdmt46.ru/rnewsfiles/10/36167jenshhiny.jpg"/>
          <p:cNvPicPr/>
          <p:nvPr/>
        </p:nvPicPr>
        <p:blipFill>
          <a:blip r:embed="rId2"/>
          <a:stretch/>
        </p:blipFill>
        <p:spPr>
          <a:xfrm>
            <a:off x="2195640" y="2852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Text Box 2"/>
          <p:cNvGrpSpPr/>
          <p:nvPr/>
        </p:nvGrpSpPr>
        <p:grpSpPr>
          <a:xfrm>
            <a:off x="12600" y="0"/>
            <a:ext cx="9131400" cy="6156360"/>
            <a:chOff x="12600" y="0"/>
            <a:chExt cx="9131400" cy="6156360"/>
          </a:xfrm>
        </p:grpSpPr>
        <p:pic>
          <p:nvPicPr>
            <p:cNvPr id="371" name="Text Box 2" descr=""/>
            <p:cNvPicPr/>
            <p:nvPr/>
          </p:nvPicPr>
          <p:blipFill>
            <a:blip r:embed="rId1"/>
            <a:stretch/>
          </p:blipFill>
          <p:spPr>
            <a:xfrm>
              <a:off x="12600" y="0"/>
              <a:ext cx="913140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85840" y="466560"/>
          <a:ext cx="8318520" cy="224496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88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20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         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-2024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       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0" name="Picture 27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385596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1000080" y="285840"/>
            <a:ext cx="7783560" cy="5749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1571760" y="357120"/>
            <a:ext cx="842760" cy="1071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3"/>
          <a:stretch/>
        </p:blipFill>
        <p:spPr>
          <a:xfrm>
            <a:off x="3500280" y="5429160"/>
            <a:ext cx="215604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1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468360" y="1268280"/>
            <a:ext cx="8064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Бюджет муниципального образования «Почепский сельсовет» на 2024 год и на плановый период 20</a:t>
            </a:r>
            <a:r>
              <a:rPr b="1" lang="en-US" sz="1400" spc="-1" strike="noStrike">
                <a:solidFill>
                  <a:srgbClr val="04617b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5 и 2026 годов утверждён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Почепского сельсовета. В течении года  производится уточнение бюджета муниципального образования «Почепский сельсовет»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2914560" y="2567160"/>
            <a:ext cx="3205080" cy="179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495c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Бюджет –это форма образования и расходования денежных средств, предназначенных для реш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12" descr=""/>
          <p:cNvPicPr/>
          <p:nvPr/>
        </p:nvPicPr>
        <p:blipFill>
          <a:blip r:embed="rId2"/>
          <a:stretch/>
        </p:blipFill>
        <p:spPr>
          <a:xfrm>
            <a:off x="500040" y="714240"/>
            <a:ext cx="1581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33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 муниципального образования «Почепский сельсовет» составлен и утвержден сроком на один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7600" y="2097000"/>
            <a:ext cx="7480440" cy="7858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46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47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ых программах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pic>
        <p:nvPicPr>
          <p:cNvPr id="253" name="Picture 23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3" descr=""/>
          <p:cNvPicPr/>
          <p:nvPr/>
        </p:nvPicPr>
        <p:blipFill>
          <a:blip r:embed="rId4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ext Box 2"/>
          <p:cNvGrpSpPr/>
          <p:nvPr/>
        </p:nvGrpSpPr>
        <p:grpSpPr>
          <a:xfrm>
            <a:off x="0" y="0"/>
            <a:ext cx="9137520" cy="6156360"/>
            <a:chOff x="0" y="0"/>
            <a:chExt cx="9137520" cy="6156360"/>
          </a:xfrm>
        </p:grpSpPr>
        <p:pic>
          <p:nvPicPr>
            <p:cNvPr id="25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j0186002"/>
          <p:cNvPicPr/>
          <p:nvPr/>
        </p:nvPicPr>
        <p:blipFill>
          <a:blip r:embed="rId3"/>
          <a:stretch/>
        </p:blipFill>
        <p:spPr>
          <a:xfrm>
            <a:off x="7072200" y="2000160"/>
            <a:ext cx="1952640" cy="20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Text Box 2"/>
          <p:cNvGrpSpPr/>
          <p:nvPr/>
        </p:nvGrpSpPr>
        <p:grpSpPr>
          <a:xfrm>
            <a:off x="6480" y="0"/>
            <a:ext cx="9137520" cy="6156360"/>
            <a:chOff x="6480" y="0"/>
            <a:chExt cx="9137520" cy="6156360"/>
          </a:xfrm>
        </p:grpSpPr>
        <p:pic>
          <p:nvPicPr>
            <p:cNvPr id="268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4 год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8" name="Picture 29" descr=""/>
          <p:cNvPicPr/>
          <p:nvPr/>
        </p:nvPicPr>
        <p:blipFill>
          <a:blip r:embed="rId2"/>
          <a:stretch/>
        </p:blipFill>
        <p:spPr>
          <a:xfrm>
            <a:off x="3000240" y="2571840"/>
            <a:ext cx="309744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Text Box 2"/>
          <p:cNvGrpSpPr/>
          <p:nvPr/>
        </p:nvGrpSpPr>
        <p:grpSpPr>
          <a:xfrm>
            <a:off x="6480" y="0"/>
            <a:ext cx="9137520" cy="6156360"/>
            <a:chOff x="6480" y="0"/>
            <a:chExt cx="9137520" cy="6156360"/>
          </a:xfrm>
        </p:grpSpPr>
        <p:pic>
          <p:nvPicPr>
            <p:cNvPr id="28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5 и 2026 годы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-2026 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99,6         1029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99,6          1029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           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90" name="Picture 29" descr=""/>
          <p:cNvPicPr/>
          <p:nvPr/>
        </p:nvPicPr>
        <p:blipFill>
          <a:blip r:embed="rId2"/>
          <a:stretch/>
        </p:blipFill>
        <p:spPr>
          <a:xfrm>
            <a:off x="2071800" y="2571840"/>
            <a:ext cx="309708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9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ы бюджета муниципального образования «Почепски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Физических ли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3" name="Прямая со стрелкой 5"/>
          <p:cNvCxnSpPr>
            <a:stCxn id="302" idx="6"/>
            <a:endCxn id="301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>
            <a:stCxn id="305" idx="2"/>
            <a:endCxn id="301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6" name="Прямая со стрелкой 12"/>
          <p:cNvCxnSpPr>
            <a:endCxn id="301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307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от других бюджетов в виде дотаций, субсидий, субвенций и иных  межбюджетных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трансферт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0" descr=""/>
          <p:cNvPicPr/>
          <p:nvPr/>
        </p:nvPicPr>
        <p:blipFill>
          <a:blip r:embed="rId2"/>
          <a:stretch/>
        </p:blipFill>
        <p:spPr>
          <a:xfrm>
            <a:off x="642960" y="3857760"/>
            <a:ext cx="1681200" cy="1544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3"/>
          <a:stretch/>
        </p:blipFill>
        <p:spPr>
          <a:xfrm>
            <a:off x="6804000" y="3789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6480" y="0"/>
            <a:ext cx="9137520" cy="6151680"/>
            <a:chOff x="6480" y="0"/>
            <a:chExt cx="9137520" cy="615168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1080"/>
              <a:ext cx="9137520" cy="614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0"/>
              <a:ext cx="9137520" cy="61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5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2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8" descr=""/>
          <p:cNvPicPr/>
          <p:nvPr/>
        </p:nvPicPr>
        <p:blipFill>
          <a:blip r:embed="rId4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8" descr=""/>
          <p:cNvPicPr/>
          <p:nvPr/>
        </p:nvPicPr>
        <p:blipFill>
          <a:blip r:embed="rId5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Админ</cp:lastModifiedBy>
  <dcterms:modified xsi:type="dcterms:W3CDTF">2023-11-28T12:35:12Z</dcterms:modified>
  <cp:revision>223</cp:revision>
  <dc:subject/>
  <dc:title>Презентация PowerPoint</dc:title>
</cp:coreProperties>
</file>