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694-8C5C-4DC7-B99D-CBE9623D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A4C-84F1-40E1-8B48-8E8A602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A79-F24A-42B9-A7B9-6939B609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A81-1D45-4816-91A5-A3F93F4C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31CE-33BE-4F4D-AAC8-BE70E784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950-BD89-4591-AEBF-D5BF37EA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F672-DD65-4D85-A3A3-5B8F4AF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C075-9093-46B4-A231-1515913D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7AAC-2618-4C1C-BA6E-D0B5A4AE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964-0232-40C5-8FC1-F17EDEC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7CC-BC72-43E2-946C-6906B1D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D42-D3D8-4407-9348-EF21793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E2DC-CE4F-450D-83DE-BC7D6F5A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693-E288-48B9-B35A-9148569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672C-7EC8-4E29-AD98-579BECB0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A9C5-9B0E-4F35-BC81-10F6241D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E01E-718D-4EA8-BA36-2296688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EF33-AC90-4012-A246-851B5449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CA8A-5DD3-4BD6-A578-0019BD27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47EF-DE9D-4AC3-9B17-B4258BAA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B369-E35A-4CC1-955C-3F235A7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04B8-8916-4109-9CCC-6321B70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398-6706-4AE6-9E05-7FFBF7F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958F-AE37-49E3-8E8E-DE6A8EE1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3BD7-91DC-44FA-AABC-459C1FCA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E4EE-73CE-451A-BF7C-4F719B6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59B2-E221-4111-9180-0FF98D8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CAFB-F18C-46F2-9335-8671CB0D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2B9B-783E-43BA-B850-5A24EDF7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E72F-F72E-47E6-A1DA-D2D5347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39E8-61C8-44EE-9496-992BE49A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A11A4-C4B7-44E9-871E-CC224DE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D552-257F-4E12-87B3-70F36DAE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C0A-B711-48E0-BB6C-B00B5EF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A65E-1447-454E-B355-CB88858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8C7B-188A-42DD-B572-1D1A78AE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EF9C-369A-45EA-A826-8C1C4630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B907-563F-4F57-90C9-34A225C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DAF5-D667-439A-99B2-B2797E1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7682-1F37-4C2F-BFAE-129D1AE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97B8-9041-4F43-9AB1-2C76B8A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7945-2B05-427F-8C9E-B23A2D7C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6880-51E9-498B-B4FE-80D7A550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072-4D48-43A6-ABF0-7D3C9B9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1F9-86D4-429B-8733-6757D41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C1B-1AC6-458B-BC73-C71C126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A5B-08DC-46D0-9B50-AA71FDF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63C-605B-4DAB-9D0C-4CBD5C1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B77-9757-41FF-B895-0FAE4E15DAA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D3E-5B2F-4C8F-953F-3F50871537A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7B26-F212-44F4-8195-15BF663EE748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1325-2F13-4F37-A0A5-4AD2C0A590D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04617b"/>
                </a:solidFill>
                <a:latin typeface="Arial"/>
              </a:rPr>
              <a:t>к проекту решения Собрания депутатов Почепского сельсовета  «О бюджете муниципального образования «Почепски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04617b"/>
                </a:solidFill>
                <a:latin typeface="Arial"/>
              </a:rPr>
              <a:t>на 2016 год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1" descr="http://cs403018.vk.me/v403018988/4228/4hyM1kjbv5M.jpg"/>
          <p:cNvPicPr/>
          <p:nvPr/>
        </p:nvPicPr>
        <p:blipFill>
          <a:blip r:embed="rId2"/>
          <a:stretch/>
        </p:blipFill>
        <p:spPr>
          <a:xfrm>
            <a:off x="3992400" y="133200"/>
            <a:ext cx="109224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9" descr="C:\Documents and Settings\XxX\Рабочий стол\Почепской сельсовет Баннер (4).jpg"/>
          <p:cNvPicPr/>
          <p:nvPr/>
        </p:nvPicPr>
        <p:blipFill>
          <a:blip r:embed="rId3"/>
          <a:stretch/>
        </p:blipFill>
        <p:spPr>
          <a:xfrm>
            <a:off x="3357720" y="142884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466560"/>
          <a:ext cx="8318520" cy="2087640"/>
        </p:xfrm>
        <a:graphic>
          <a:graphicData uri="http://schemas.openxmlformats.org/drawingml/2006/table">
            <a:tbl>
              <a:tblPr/>
              <a:tblGrid>
                <a:gridCol w="7030800"/>
                <a:gridCol w="1287720"/>
              </a:tblGrid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Почепском сельсове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6  го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Picture 27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855960" cy="2539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" descr="http://www.kdmt46.ru/rnewsfiles/10/36167jenshhiny.jpg"/>
          <p:cNvPicPr/>
          <p:nvPr/>
        </p:nvPicPr>
        <p:blipFill>
          <a:blip r:embed="rId3"/>
          <a:stretch/>
        </p:blipFill>
        <p:spPr>
          <a:xfrm>
            <a:off x="357120" y="27147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7796520" cy="5759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1571760" y="357120"/>
            <a:ext cx="84276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15604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0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Arial"/>
              </a:rPr>
              <a:t>Бюджет муниципального образования «Почепский сельсовет» на 2016 год утверждён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Почепского сельсовета. В течении года  производится уточнение бюджета муниципального образования «Почепский сельсовет»</a:t>
            </a: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1066680" y="263988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3495c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Бюджет –это форма образования и расходования денежных средств, предназначенных для реш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00040" y="714240"/>
            <a:ext cx="1581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Почепский сельсовет» составлен и утвержден сроком на один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46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47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чепс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Почепс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pic>
        <p:nvPicPr>
          <p:cNvPr id="253" name="Picture 23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"/>
          <p:cNvPicPr/>
          <p:nvPr/>
        </p:nvPicPr>
        <p:blipFill>
          <a:blip r:embed="rId4"/>
          <a:stretch/>
        </p:blipFill>
        <p:spPr>
          <a:xfrm>
            <a:off x="357120" y="785880"/>
            <a:ext cx="10112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6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10112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0186002"/>
          <p:cNvPicPr/>
          <p:nvPr/>
        </p:nvPicPr>
        <p:blipFill>
          <a:blip r:embed="rId3"/>
          <a:stretch/>
        </p:blipFill>
        <p:spPr>
          <a:xfrm>
            <a:off x="7072200" y="2000160"/>
            <a:ext cx="1952640" cy="20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образования      «Почепской сельсовет» на 2016 год 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29" descr=""/>
          <p:cNvPicPr/>
          <p:nvPr/>
        </p:nvPicPr>
        <p:blipFill>
          <a:blip r:embed="rId2"/>
          <a:stretch/>
        </p:blipFill>
        <p:spPr>
          <a:xfrm>
            <a:off x="3000240" y="2571840"/>
            <a:ext cx="309744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ы бюджета муниципального образования «Почепски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Физических ли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1" name="Прямая со стрелкой 5"/>
          <p:cNvCxnSpPr>
            <a:stCxn id="290" idx="6"/>
            <a:endCxn id="289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2" name="Прямая со стрелкой 7"/>
          <p:cNvCxnSpPr>
            <a:stCxn id="293" idx="2"/>
            <a:endCxn id="289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4" name="Прямая со стрелкой 12"/>
          <p:cNvCxnSpPr>
            <a:endCxn id="289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5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от других бюджетов в виде дотаций, субсидий, субвенций и иных  межбюджетных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трансфер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0" descr=""/>
          <p:cNvPicPr/>
          <p:nvPr/>
        </p:nvPicPr>
        <p:blipFill>
          <a:blip r:embed="rId2"/>
          <a:stretch/>
        </p:blipFill>
        <p:spPr>
          <a:xfrm>
            <a:off x="642960" y="3857760"/>
            <a:ext cx="1681200" cy="154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1" descr=""/>
          <p:cNvPicPr/>
          <p:nvPr/>
        </p:nvPicPr>
        <p:blipFill>
          <a:blip r:embed="rId3"/>
          <a:stretch/>
        </p:blipFill>
        <p:spPr>
          <a:xfrm>
            <a:off x="5929200" y="4429080"/>
            <a:ext cx="1117800" cy="9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ниципального образования «Почепской сельсовет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55640" y="836640"/>
          <a:ext cx="7848720" cy="354636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10" name="Picture 58" descr=""/>
          <p:cNvPicPr/>
          <p:nvPr/>
        </p:nvPicPr>
        <p:blipFill>
          <a:blip r:embed="rId2"/>
          <a:stretch/>
        </p:blipFill>
        <p:spPr>
          <a:xfrm>
            <a:off x="185724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9" descr="C:\Documents and Settings\XxX\Рабочий стол\андрей(2)\БЮДЖЕТ ДЛЯ ГРАЖДАН муниципального образования «Кармановский сельсовет» Железногорского района Курской области на 2015 год и на плановый период 2016 и 2017 годов_files\img1.jpg"/>
          <p:cNvPicPr/>
          <p:nvPr/>
        </p:nvPicPr>
        <p:blipFill>
          <a:blip r:embed="rId3"/>
          <a:stretch/>
        </p:blipFill>
        <p:spPr>
          <a:xfrm>
            <a:off x="5715000" y="4429080"/>
            <a:ext cx="1920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Почепс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24000" y="549360"/>
          <a:ext cx="8351640" cy="5454720"/>
        </p:xfrm>
        <a:graphic>
          <a:graphicData uri="http://schemas.openxmlformats.org/drawingml/2006/table">
            <a:tbl>
              <a:tblPr/>
              <a:tblGrid>
                <a:gridCol w="6681600"/>
                <a:gridCol w="16700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Почепский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Почепского сельсовета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граждан в муниципальном образовании «Почепском сельсовет» на 2016 г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Почепском сельсовет» н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Почепском сельсовете на 2016 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FIT</cp:lastModifiedBy>
  <dcterms:modified xsi:type="dcterms:W3CDTF">2015-12-24T12:22:12Z</dcterms:modified>
  <cp:revision>187</cp:revision>
  <dc:subject/>
  <dc:title>Презентация PowerPoint</dc:title>
</cp:coreProperties>
</file>